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4.wmf" ContentType="image/x-wmf"/>
  <Override PartName="/ppt/media/image35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6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2895120" y="526680"/>
            <a:ext cx="3505320" cy="262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7"/>
          </p:nvPr>
        </p:nvSpPr>
        <p:spPr>
          <a:xfrm>
            <a:off x="-360" y="6659640"/>
            <a:ext cx="40273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8"/>
          </p:nvPr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E6B-7160-44B6-8534-EA38C2D9584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lmost identical results for limited/2D-poly (U/W-shapes not beneficial)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er area overhead for fixed pitch if min gate pitch ≠ contacted pitc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F066-7197-4B00-9BCB-38AD44971BC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small cell-height (7 tracks), diffusion power-straps lead to 5.8% area improvement because it reduces M1-congestion which affects area seriously in this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FE0B-021F-43F5-AEA0-1C5C65EACDB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usion power-straps lead to 5.2%/4.2% smaller cell-area (contrary to previous study with 45nm FreePDK) du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M1-conges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gate-spacing according to DR values of 65nm commercial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8020-6E1E-415A-B6E1-599D6743891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332B-7B04-439B-9EC9-79F55746077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"/>
          <p:cNvSpPr/>
          <p:nvPr/>
        </p:nvSpPr>
        <p:spPr>
          <a:xfrm>
            <a:off x="1639800" y="531720"/>
            <a:ext cx="601668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0A9-9C55-4273-8C60-60808722E40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"/>
          <p:cNvSpPr/>
          <p:nvPr/>
        </p:nvSpPr>
        <p:spPr>
          <a:xfrm>
            <a:off x="1639800" y="531720"/>
            <a:ext cx="600228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5AC-C7B5-4516-8026-6F9FD63AA5C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"/>
          <p:cNvSpPr/>
          <p:nvPr/>
        </p:nvSpPr>
        <p:spPr>
          <a:xfrm>
            <a:off x="1639800" y="531720"/>
            <a:ext cx="60120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C9B-8843-4A16-9FE0-68305AAF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CB8-47F0-4DA2-BEFC-56A6B658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0A8D75-169F-4D03-BF5A-297B460A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F2652E-F6A6-42B0-AC7D-975AB4A4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51CA5E-1171-4798-A34E-103CC1F6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50BDE5-DAE2-4719-BF36-7EE9757E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9CA92D-8F12-4648-B1B1-F5557DB0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0A8949-6C7B-499C-8537-81F06FA1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C99092-C598-4D63-87F3-1D64161B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F1B23F-7B41-48E7-99AC-E887F239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876CD8-BA17-45D3-B708-0CFD1D81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9B9A6E-4D99-4FFD-BC91-C883855F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B36-DCBC-4B2C-A8CE-82149340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2A0277-AE9E-42F2-971B-8014A940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3F4009-5AAC-4C49-9CC4-4BD007B0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4F5005-7D84-46DD-97AA-3AA55F96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1AF757-E671-4F2F-804A-62E9715A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90257D-B377-4AFD-8728-15456FD4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43BE24-73DF-4576-A68E-E6F86569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32345C-CAA1-431C-AD75-E53D711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E19767-C73B-4D52-A0B4-B7AE573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F34798-32C1-43F5-8218-EB26A881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CF4D18-9F3D-46CB-B352-37B2580F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583-7752-4115-97AA-1484BD67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F9CD53-9B2A-4127-A411-51531BCF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14680A-7698-4809-9860-FC329FE5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51FFDE-BE00-433B-A5D7-BF75D136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654ABA-47E2-4F66-91D4-6A7CB94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23EC0D-DC6F-449C-A90D-1F4531B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CFD91E-8A92-49A9-B2F4-1BFC9588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BF6E0D-B80F-46FF-8D6B-9FE06CE2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1CB3E2-1FB6-4F9C-A5E4-137071F8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A1C30B-E077-4811-85D1-422A519B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1CA13B-D2EF-4200-9038-0F0B3224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BBF8A-2958-44C0-A112-A151D61A596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4355C6-E840-4899-89C7-929E07E8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9B3148-EC47-4074-93A5-34E36389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A79EF0-FD63-46F1-B86E-5CA07226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9D08D5-E912-457E-815F-EF4F5143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6E3B0D-6D16-4D6E-881F-6A367945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81DE13-B170-40A8-9F20-4D6C3782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8CECC3-B193-4DEA-892E-EAEAF74C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9D6A42-2F1A-406F-A984-DC5EAF76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73FD71-4488-414B-BBCC-F0CEE9AC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5020DF-BC22-4238-A2E9-38C291A9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B1B17-DD02-4D9C-8E38-D600FCC2C4D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A9DA64-A5ED-47A6-8317-109D7AD8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6E0607-D8F5-42D2-9197-A8774B8E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311583-E28B-4BDE-857E-F4AC505F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780A27-772C-4237-9236-27BA21E0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D04BAD-BD72-4DE9-B6DA-B3C8531D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038E2-5A2F-4695-88BB-115316F27F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59FD0-A7DF-4DF5-B1E5-B0EA4E3C80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A68D8-096B-4A4D-A5BD-00C50BE806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21B8F-B21C-4532-802C-A0E356F236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209D8-A7EA-4410-8EBA-EA3270A400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6C2-2AB7-454C-B0B7-30595877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62BCF-BCEC-4B28-BD90-810D59873C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6BD3A-90DA-432B-B68A-CA04855E83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EFBE4-12DC-4A48-9268-41FF36AB52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094E3-4B4F-404F-8324-56C3CE6A29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F9980-A6BE-4911-A1F3-F1159EE0EF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C5546-2F6C-4C98-8D42-F9F91BBC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2887E-1166-4B1B-BCF5-9C6BD2BA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7479B-C4C7-4414-BF1A-DAEEE90F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84294-40FD-458B-8683-6407D91A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E5831-A9BD-40FB-BD66-6F3C5EA7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711-8595-40BC-B4EB-478AE4BF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B7489-49AD-4409-B1D4-AF25C150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3ECCE-B468-4D7F-9C4F-2708357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5A038-8C02-4450-880D-3A9911DE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4A9E8-D72E-45FE-AB11-1F5C10EF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09DDC-A34D-48CC-A52E-10F92053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C809C-8B95-43B9-8110-52707E43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04E23-432D-4E9B-A7C2-97D5F6AD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E121A-33A1-4D99-B904-17DF4D80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E8B65-4840-49F3-84E2-94A15648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9EDE2-09A1-47F2-9C76-467BD182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4C5-FF8B-4077-A334-9ECB691E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137034-17CF-4174-ADDB-B8DD6998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3E988-0442-42DA-9E4E-2CDAA8A6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9D6A1-F1A8-4FB7-B66C-CF1E8532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156AC-982F-4DEB-B55E-8082ACC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C33B4-B686-4CCE-8FD2-76C5591A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BF15B-2E88-4B2E-9150-66BEC042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1C3CE-2F2C-49BA-9045-662F2DC9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55AA5-29D1-49FA-8465-21435315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F0386-CF49-48C4-A2C5-42E21B21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AD1BD-E711-4018-9AB3-C1A1597B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488-9F61-4BE5-9882-CEDCC2D9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BF5A7-9E40-4ED6-AFCE-C9B7E311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E5225-A294-4230-AB1C-567C13D2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5F103-2B23-4E6F-A2E2-34A646FE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7CFCA-4117-4696-BB7B-C4843A3B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11E5B-DD79-4374-B12A-2EE405F1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6CE94-04E1-4397-80D4-F091F506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5C287-DBD3-4A20-AF38-5911BC10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778AF-5EC8-4C62-94A4-DD6DD860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21DE1-8E88-46FD-821A-39155A8F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89062-F63B-4F38-8C88-21CC1950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CC9-C795-4591-9A11-2E24E9C2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36081-63B0-4F32-9599-1E1D6DAD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B2C78-A2A6-4FF7-9160-A18754BE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FB61B-A663-4911-B979-A71D1AF8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C8446-ACA4-46CF-BEA1-CFE0CD8E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65E89-D386-4CE5-8B97-7940F2FB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DDBF7-128F-4106-97DE-61047C8D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CF091-BDD8-40E7-9D65-3543B517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7F63C8-5934-4864-B8DE-0B96E9B6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950BC-68C6-4745-8951-938B54E9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82BB3-82F2-4811-9944-FE951477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B61-5EBB-414C-9E81-77B00F19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988DBD-6EF6-46C0-B76C-26936B08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F20AC-0DAF-4E7C-A26E-13E0B8B3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10E37-1FE6-45DE-83A7-1A2DEA42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70FF1-4F01-4246-BB7B-5D4D6E02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CEEB8-174B-41D7-967E-F65A4065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70D80-21E5-4E18-B067-84B4CADA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BBA4EF-C98E-4A07-81BC-D9581B3A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10D20-AA4E-45BC-B632-C2392985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4860BE-4CF7-43D4-BCBC-DAFAD142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49430-4DBC-4809-B236-2705F6EC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BA0-0FD7-4AA4-BE78-822FA1AB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80932D-5771-4DA7-A98E-0C26F45F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B8C97-EF43-4873-A783-0A03EC97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67402-E863-406A-ABA9-F65890B0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B7C20-175B-4F7B-B983-30DB0D99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354FAF-F7E3-4351-ABD1-B7706A61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15CFCB-6EE2-4BCA-982C-28AD595A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9A7EB6-F35E-4C4D-AA2F-4437F7A0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330708-D6F1-431E-87F6-86DD2010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F531CA-38B1-4AD4-B574-B65494C3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94C266-BE04-441A-92C3-906595EC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51E-3964-4C1D-850F-770BDD23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6C188-0AFF-4DBC-9681-ED46E5DF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A6B8AB-4A53-4539-BEC8-104911B6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5F444-2840-426F-85AF-BDDFBACF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EE28D9-D0FA-4B4D-A714-EC1496A5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B011F7-26F2-4CC5-86D0-F09BE745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4ED607-851F-4514-9346-3C4E8D1A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464391-AF85-4DA8-BE7D-2E9443D5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7EB8DA-A357-4BED-A4B8-C4ED3CEF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D8653D-4306-4855-AEFB-5E9743AE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57D882-D3A7-4D42-9233-FEC6EB26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87B8-44C9-42E7-ADB9-50344027B49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BAB4-4210-46A4-B11A-54FBF11836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3420-96D0-4DC1-BA57-50A38D3172E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72AC-E4C2-4A91-9119-6C87AD8E2D5E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0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42A8-D528-4CC0-A99A-4674EBCAC11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1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2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79A9-70F0-4D0F-A481-2930D68AC35F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404F-5673-4D06-998D-67001EDB783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6E3F-D62B-4266-A314-FA7A530B4697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762120" y="3276720"/>
            <a:ext cx="7543800" cy="75960"/>
          </a:xfrm>
          <a:prstGeom prst="roundRect">
            <a:avLst>
              <a:gd name="adj" fmla="val 16667"/>
            </a:avLst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Delay 7"/>
          <p:cNvSpPr/>
          <p:nvPr/>
        </p:nvSpPr>
        <p:spPr>
          <a:xfrm>
            <a:off x="8265960" y="327672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lowchart: Delay 8"/>
          <p:cNvSpPr/>
          <p:nvPr/>
        </p:nvSpPr>
        <p:spPr>
          <a:xfrm rot="10800000">
            <a:off x="685440" y="327636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56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3352680" y="5724360"/>
            <a:ext cx="2514600" cy="520560"/>
          </a:xfrm>
          <a:prstGeom prst="rect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anoCA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056C-34B9-405D-8C54-8D296F35E2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0" y="6537240"/>
            <a:ext cx="4267080" cy="32076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ie 7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7010280" y="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4DBA-62C2-48B2-83D4-8B1825CB362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-360" y="6552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A4A1-1F9C-4AE3-9947-DA7E0E95021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6A62-EA25-47CA-915E-90AE672D7BA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1F67-E1C0-4B60-99C4-96A894DDFB9A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85F3-ADC2-4ABF-8195-FB6BFD2AA66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7E1B-1CB3-4EF4-B012-42EAA8E09371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35B4-1CD6-4538-9B49-1C7986448E5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D2C0-BA3C-490D-8B7D-E51D1A04FD29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3C56-AF4D-4BB8-AC70-1D891DB29C7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8AD0-4840-4D29-BFA8-14DACC6B8E98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12" name="Pie 8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TextBox 9"/>
          <p:cNvGrpSpPr/>
          <p:nvPr/>
        </p:nvGrpSpPr>
        <p:grpSpPr>
          <a:xfrm>
            <a:off x="-6480" y="6534000"/>
            <a:ext cx="4280040" cy="379440"/>
            <a:chOff x="-6480" y="6534000"/>
            <a:chExt cx="4280040" cy="379440"/>
          </a:xfrm>
        </p:grpSpPr>
        <p:pic>
          <p:nvPicPr>
            <p:cNvPr id="314" name="TextBox 9" descr=""/>
            <p:cNvPicPr/>
            <p:nvPr/>
          </p:nvPicPr>
          <p:blipFill>
            <a:blip r:embed="rId3"/>
            <a:stretch/>
          </p:blipFill>
          <p:spPr>
            <a:xfrm>
              <a:off x="-6480" y="6534000"/>
              <a:ext cx="428004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0" y="653724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anoCAD 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69D4-81FE-4111-B65E-55B5569354E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1676160" y="667512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4379400" y="6675120"/>
            <a:ext cx="38124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780F-9739-40E2-86D1-16D6FDC0DBB2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4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78B7-D204-40FF-A740-40F9DA48519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5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6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39CB-B173-4422-A837-3CA12CF0FE72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ni@ee.ucla.edu" TargetMode="External"/><Relationship Id="rId2" Type="http://schemas.openxmlformats.org/officeDocument/2006/relationships/hyperlink" Target="mailto:puneet@ee.ucla.edu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A Framework for Systematic Evaluation and Exploration of Design Rul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Arial"/>
              </a:rPr>
              <a:t>Rani S. Ghaida* and Prof. Puneet Gupta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EE Dept., University of California, Los Angele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ani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,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uneet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Work partly supported by IMPACT, SRC, and NSF.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106668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955B-7DA1-462A-B7C5-FF1788D2D7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             → increase cell-area to accommodate M1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captures routing efficiency, I/O pin accessing, and congestion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and </a:t>
            </a:r>
            <a:r>
              <a:rPr b="0" i="1" lang="el-GR" sz="2200" spc="-1" strike="noStrike">
                <a:solidFill>
                  <a:srgbClr val="526895"/>
                </a:solidFill>
                <a:latin typeface="Arial"/>
              </a:rPr>
              <a:t>β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determined empirically from actual cells from previous generation or trial rout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l-GR" sz="2200" spc="-1" strike="noStrike">
                <a:solidFill>
                  <a:srgbClr val="526895"/>
                </a:solidFill>
                <a:latin typeface="Times New Roman"/>
              </a:rPr>
              <a:t>γ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for I/O pin-access requirement and is specified by us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utilization w/o considering blockage from orthogonal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0,             → 1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larg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,              → 0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small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 Area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graphicFrame>
        <p:nvGraphicFramePr>
          <p:cNvPr id="942" name="Object 23"/>
          <p:cNvGraphicFramePr/>
          <p:nvPr/>
        </p:nvGraphicFramePr>
        <p:xfrm>
          <a:off x="3276720" y="2133720"/>
          <a:ext cx="29937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993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4"/>
          <p:cNvGraphicFramePr/>
          <p:nvPr/>
        </p:nvGraphicFramePr>
        <p:xfrm>
          <a:off x="1119240" y="1279440"/>
          <a:ext cx="938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1279440"/>
                    <a:ext cx="938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4"/>
          <p:cNvGraphicFramePr/>
          <p:nvPr/>
        </p:nvGraphicFramePr>
        <p:xfrm>
          <a:off x="2487600" y="4800600"/>
          <a:ext cx="101772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7600" y="480060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5"/>
          <p:cNvGraphicFramePr/>
          <p:nvPr/>
        </p:nvGraphicFramePr>
        <p:xfrm>
          <a:off x="2716200" y="5610240"/>
          <a:ext cx="10177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6200" y="561024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Slide Number Placeholder 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BBB5-2FE0-41EC-81E4-4BE5CFDD31C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Validation of Area Estimation and Runtime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Layout of Nangate cell-library (104 cells) were estimated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rea estimated with 2.4% error on average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of evaluation procedure is 20 minutes real time on a 2GHz clock speed and 2MB cache processor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Easily parallelizable with no overhead since cell topology generation is independent 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3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4B9F-F5DF-48D1-B7FB-D105EB39E61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9" descr="EstimatedArea.bmp"/>
          <p:cNvPicPr/>
          <p:nvPr/>
        </p:nvPicPr>
        <p:blipFill>
          <a:blip r:embed="rId1"/>
          <a:stretch/>
        </p:blipFill>
        <p:spPr>
          <a:xfrm>
            <a:off x="2895480" y="914400"/>
            <a:ext cx="3544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502920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243828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Manufactur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ability of survival (POS) from: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verlay of Poly/M1/Active to contacts and poly-to-active (normal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tact-hole failur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article defects: place wires on equally spaced tracks, use a compact model for CAA for M1/poly/contact shorts/opens and gate-to-contact shorts. Example for M1/poly wire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2590920" y="1600200"/>
            <a:ext cx="15228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2590920" y="2438280"/>
            <a:ext cx="152280" cy="9144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3048120" y="1600200"/>
            <a:ext cx="152280" cy="17524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3505320" y="16002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3505320" y="2819520"/>
            <a:ext cx="152280" cy="5331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962520" y="1600200"/>
            <a:ext cx="15228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5105520" y="1600200"/>
            <a:ext cx="1676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5105520" y="2362320"/>
            <a:ext cx="9903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6248520" y="2362320"/>
            <a:ext cx="533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4"/>
          <p:cNvSpPr/>
          <p:nvPr/>
        </p:nvSpPr>
        <p:spPr>
          <a:xfrm>
            <a:off x="5105520" y="3200400"/>
            <a:ext cx="83808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7"/>
          <p:cNvSpPr/>
          <p:nvPr/>
        </p:nvSpPr>
        <p:spPr>
          <a:xfrm>
            <a:off x="2590920" y="1077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8"/>
          <p:cNvSpPr/>
          <p:nvPr/>
        </p:nvSpPr>
        <p:spPr>
          <a:xfrm>
            <a:off x="50292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1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A1C3-B039-4DDB-B01A-5619CC1360D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8" descr=""/>
          <p:cNvPicPr/>
          <p:nvPr/>
        </p:nvPicPr>
        <p:blipFill>
          <a:blip r:embed="rId1"/>
          <a:stretch/>
        </p:blipFill>
        <p:spPr>
          <a:xfrm>
            <a:off x="4952880" y="2336760"/>
            <a:ext cx="4114800" cy="40640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Vari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28600" y="838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We consider the sources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diffusion and poly imperfections under average overlay error and line-end pullback (corner-rounding, line-end taper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D variability (using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Variability index is the total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hange in drive current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6895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re </a:t>
            </a: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52689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s the source of variability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5" name="Slide Number Placeholder 1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E176-4786-44D5-A25C-E4762B9437A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2" descr=""/>
          <p:cNvPicPr/>
          <p:nvPr/>
        </p:nvPicPr>
        <p:blipFill>
          <a:blip r:embed="rId2"/>
          <a:stretch/>
        </p:blipFill>
        <p:spPr>
          <a:xfrm>
            <a:off x="914400" y="3817800"/>
            <a:ext cx="32860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erimental Setup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45nm FreePDK and 65nm process from a commercial vendor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enchmark designs varying from 4K to 43K cells synthesized using Nangate 45nm Open Cell Lib (scaled for 65nm testing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OS values normalized to a 10x10mm chip-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aseline experiment with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1D-poly (non-fixed 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power-strap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9-track cell-height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9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4CCD-70C4-41C3-8D15-E29B18B1242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ly-Restriction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3504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2D vs.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lmost identical cell-area due to pairing                                           and small overhead for gate-alignment                                     according to FreePDK D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32% less variability with 1D-poly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ixed vs. non-fixed pitch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23% less variability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5% area overhead because min = contacted gate pitch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2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FCDA-1159-47D0-9377-EBD2E7464CF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605560" cy="25146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" descr=""/>
          <p:cNvPicPr/>
          <p:nvPr/>
        </p:nvPicPr>
        <p:blipFill>
          <a:blip r:embed="rId2"/>
          <a:stretch/>
        </p:blipFill>
        <p:spPr>
          <a:xfrm>
            <a:off x="5611680" y="1149480"/>
            <a:ext cx="3532320" cy="1593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3"/>
          <a:stretch/>
        </p:blipFill>
        <p:spPr>
          <a:xfrm>
            <a:off x="5611680" y="3054240"/>
            <a:ext cx="353232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wer-Strap Sty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38098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7% area overhead with diff straps (not true for small cell-height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pecific to FreePDK, opposite results for 65nm commercial proces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84% larger variability with diff-power strap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diffusion-rounding is dominant in tested cell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anufacturability benefits of diffusion power strap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Gate-to-contact shorts are reduced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tact redundancy for power connections on power rail (no cost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ECC3-C17E-479F-AE63-36D9F933875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D:\PhD-UCLA\Research\DRvsLayoutArea\Documents\ICCAD\powerstraps.bmp"/>
          <p:cNvPicPr/>
          <p:nvPr/>
        </p:nvPicPr>
        <p:blipFill>
          <a:blip r:embed="rId1"/>
          <a:stretch/>
        </p:blipFill>
        <p:spPr>
          <a:xfrm>
            <a:off x="233280" y="1133640"/>
            <a:ext cx="867744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Cell-Heigh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720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Minor effect of cell-height decision on vari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poly rounding and line-end tapering affected by cell-height decision are second-order sources of variability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2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 general, smaller cell-height </a:t>
            </a:r>
            <a:r>
              <a:rPr b="0" lang="en-US" sz="2400" spc="-1" strike="noStrike">
                <a:solidFill>
                  <a:srgbClr val="52689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 smaller area,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Not true for (large) cells in high-performance desig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DE9B-67DE-49A7-BCD9-FBF4AAA38F7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2" descr="D:\PhD-UCLA\Research\DRvsLayoutArea\Documents\ICCAD\cellheight45.bmp"/>
          <p:cNvPicPr/>
          <p:nvPr/>
        </p:nvPicPr>
        <p:blipFill>
          <a:blip r:embed="rId1"/>
          <a:stretch/>
        </p:blipFill>
        <p:spPr>
          <a:xfrm>
            <a:off x="219240" y="1219320"/>
            <a:ext cx="8705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Comparison of DRs from Different Process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of std and LP 65nm process from same vendor with diffusion/M1 power-strap style and 1D-poly pattern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P better in terms of variability and manufacturability, but std process is more area-efficient (7.9% less area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6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31CC-2276-44E2-82DE-FEC83439D0D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D:\PhD-UCLA\Research\DRvsLayoutArea\Documents\ICCAD\RDR65nm.bmp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loration of Gate-Spacing Rules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44197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sider gate-to-diffusion (GD) and gate-to-contact (GC) rules in 65nm process and use diff power-straps and 1D-poly sty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olution corresponding to process GD/GC actual values falls very near the Pareto optimal frontier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xample shows the fidelity of our evaluation metrics and approach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8BBE-3C02-4C0A-8E50-04535C2579A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D:\PhD-UCLA\Research\DRvsLayoutArea\Documents\ICCAD\stopt.bmp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dustry is faced with many technology options for scaling to every nex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DRs being the biggest design-relevant quality metric for a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valuating DRs is absolutely necessary to decide on 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utomated and systematic cell-level DR eval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focus o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arl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 evaluation of layout-methodologies and DR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before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xact process and design technologies are 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avoid explicit simulation or excessive reliance on accurate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6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A16F-5CAF-4A4F-90FB-5F95A142B8E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lexible framework for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arly co-evaluation of technologies, DRs, and cell library architecture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before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exact process and design technologies are know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from different process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n be used in DR optimization loops to narrow down on reasonable DR choic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++ source code available for download at </a:t>
            </a:r>
            <a:r>
              <a:rPr b="1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http://nanocad.ee.ucla.edu/Main/Projects</a:t>
            </a:r>
            <a:r>
              <a:rPr b="0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4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1AD8-544E-41C9-9AC5-51C5ABF61CA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22824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ddress DR effects on other layout characteristics including performance, power, and some notion of design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troduce a 2D printability model (not based on field simulation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trapolate DR evaluation to the chip level and include intermediate and global metal/via layer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tudy interactions and tradeoffs of variability and 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1402-D42F-4E1D-9ACB-2736A54AA2E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1519200" y="1295280"/>
            <a:ext cx="6164280" cy="1111320"/>
            <a:chOff x="1519200" y="1295280"/>
            <a:chExt cx="6164280" cy="1111320"/>
          </a:xfrm>
        </p:grpSpPr>
        <p:grpSp>
          <p:nvGrpSpPr>
            <p:cNvPr id="1009" name="Rounded Rectangle 8"/>
            <p:cNvGrpSpPr/>
            <p:nvPr/>
          </p:nvGrpSpPr>
          <p:grpSpPr>
            <a:xfrm>
              <a:off x="1519200" y="1295280"/>
              <a:ext cx="2024640" cy="1111320"/>
              <a:chOff x="1519200" y="1295280"/>
              <a:chExt cx="2024640" cy="1111320"/>
            </a:xfrm>
          </p:grpSpPr>
          <p:pic>
            <p:nvPicPr>
              <p:cNvPr id="1010" name="Rounded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295280"/>
                <a:ext cx="202464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"/>
              <p:cNvSpPr/>
              <p:nvPr/>
            </p:nvSpPr>
            <p:spPr>
              <a:xfrm>
                <a:off x="160452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ell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Rounded Rectangle 9"/>
            <p:cNvGrpSpPr/>
            <p:nvPr/>
          </p:nvGrpSpPr>
          <p:grpSpPr>
            <a:xfrm>
              <a:off x="5664960" y="1295280"/>
              <a:ext cx="2018520" cy="1111320"/>
              <a:chOff x="5664960" y="1295280"/>
              <a:chExt cx="2018520" cy="1111320"/>
            </a:xfrm>
          </p:grpSpPr>
          <p:pic>
            <p:nvPicPr>
              <p:cNvPr id="1013" name="Rounded 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4960" y="1295280"/>
                <a:ext cx="201852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"/>
              <p:cNvSpPr/>
              <p:nvPr/>
            </p:nvSpPr>
            <p:spPr>
              <a:xfrm>
                <a:off x="574848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hip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Striped Right Arrow 13"/>
            <p:cNvGrpSpPr/>
            <p:nvPr/>
          </p:nvGrpSpPr>
          <p:grpSpPr>
            <a:xfrm>
              <a:off x="3737160" y="1607760"/>
              <a:ext cx="676800" cy="526680"/>
              <a:chOff x="3737160" y="1607760"/>
              <a:chExt cx="676800" cy="526680"/>
            </a:xfrm>
          </p:grpSpPr>
          <p:pic>
            <p:nvPicPr>
              <p:cNvPr id="1016" name="Striped Right Arrow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73716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"/>
              <p:cNvSpPr/>
              <p:nvPr/>
            </p:nvSpPr>
            <p:spPr>
              <a:xfrm>
                <a:off x="386712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Striped Right Arrow 14"/>
            <p:cNvGrpSpPr/>
            <p:nvPr/>
          </p:nvGrpSpPr>
          <p:grpSpPr>
            <a:xfrm>
              <a:off x="4722120" y="1607760"/>
              <a:ext cx="676800" cy="526680"/>
              <a:chOff x="4722120" y="1607760"/>
              <a:chExt cx="676800" cy="526680"/>
            </a:xfrm>
          </p:grpSpPr>
          <p:pic>
            <p:nvPicPr>
              <p:cNvPr id="1019" name="Striped Right Arrow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212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"/>
              <p:cNvSpPr/>
              <p:nvPr/>
            </p:nvSpPr>
            <p:spPr>
              <a:xfrm>
                <a:off x="485064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689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AFA8-0A34-43D4-A47A-19B111C7582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A6BE-0096-4EA8-8904-D1D19E54277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untime Improvement in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for cells with trans folded into large # of fold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pecial case for inverters/buffe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etect them based on connectivity info in netlist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Force chaining of fingers of folded tran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ive preference to sharing output signal so that power signal is at the edge allowing its sharing with other transisto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o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If trans is folded into large # of fingers (user-specified)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roup fingers into multiple groups (user-specified)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Treat each group as a single pair during chainin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Unfold finger groups after chaining is complete 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egligible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3F7E-07BD-44C9-AC9E-F87207008A0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Runtime Improvement in Chain-Ordering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Runtime of chain-ordering with exhaustive search in cells with large # of chai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Let user specify limit on # of chains for exhaustive search (Lim)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For cells with # of chains &gt; Lim: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artition chains into groups with # of chains ≤ Lim using FM algorithm to minimize connection cuts between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chains within each partition separately while taking the order of partition into account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7084-C1FB-46F7-9DB9-860BE7ECC2C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5" descr="D:\PhD-UCLA\Research\DRvsLayoutArea\ChipLevel\Documents\blockageex.bmp"/>
          <p:cNvPicPr/>
          <p:nvPr/>
        </p:nvPicPr>
        <p:blipFill>
          <a:blip r:embed="rId1"/>
          <a:stretch/>
        </p:blipFill>
        <p:spPr>
          <a:xfrm>
            <a:off x="5029200" y="2666880"/>
            <a:ext cx="4038480" cy="36068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304560" y="9907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xample of L-bend with tip facing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uter corner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1) and (2) are actually blocke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3) effectively increase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wirelength in orthogonal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irection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-Congestion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5" name="Slide Number Placeholder 1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24A3-45CA-4084-A29E-8F77A11F736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39"/>
          <p:cNvSpPr/>
          <p:nvPr/>
        </p:nvSpPr>
        <p:spPr>
          <a:xfrm>
            <a:off x="6095880" y="5261040"/>
            <a:ext cx="457200" cy="7617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8"/>
          <p:cNvSpPr/>
          <p:nvPr/>
        </p:nvSpPr>
        <p:spPr>
          <a:xfrm>
            <a:off x="6095880" y="3279600"/>
            <a:ext cx="457200" cy="7621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utcomes Depend on Set of DR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1447920" y="388944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447920" y="49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"/>
          <p:cNvSpPr/>
          <p:nvPr/>
        </p:nvSpPr>
        <p:spPr>
          <a:xfrm>
            <a:off x="1447920" y="40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52480" y="3736800"/>
            <a:ext cx="15264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09680" y="3903840"/>
            <a:ext cx="152640" cy="16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5238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4382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19810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15238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24382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19810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5"/>
          <p:cNvSpPr/>
          <p:nvPr/>
        </p:nvSpPr>
        <p:spPr>
          <a:xfrm>
            <a:off x="1981080" y="3584520"/>
            <a:ext cx="15264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6"/>
          <p:cNvSpPr/>
          <p:nvPr/>
        </p:nvSpPr>
        <p:spPr>
          <a:xfrm>
            <a:off x="15238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7"/>
          <p:cNvSpPr/>
          <p:nvPr/>
        </p:nvSpPr>
        <p:spPr>
          <a:xfrm>
            <a:off x="24382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8"/>
          <p:cNvSpPr/>
          <p:nvPr/>
        </p:nvSpPr>
        <p:spPr>
          <a:xfrm>
            <a:off x="1981080" y="5032440"/>
            <a:ext cx="15264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9"/>
          <p:cNvSpPr/>
          <p:nvPr/>
        </p:nvSpPr>
        <p:spPr>
          <a:xfrm>
            <a:off x="1371600" y="57182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1371600" y="32036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5486400" y="3889440"/>
            <a:ext cx="8380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2"/>
          <p:cNvSpPr/>
          <p:nvPr/>
        </p:nvSpPr>
        <p:spPr>
          <a:xfrm>
            <a:off x="5486400" y="4956120"/>
            <a:ext cx="1676520" cy="442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3"/>
          <p:cNvSpPr/>
          <p:nvPr/>
        </p:nvSpPr>
        <p:spPr>
          <a:xfrm>
            <a:off x="5715000" y="4041720"/>
            <a:ext cx="14479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4"/>
          <p:cNvSpPr/>
          <p:nvPr/>
        </p:nvSpPr>
        <p:spPr>
          <a:xfrm>
            <a:off x="5791320" y="3736800"/>
            <a:ext cx="15228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5"/>
          <p:cNvSpPr/>
          <p:nvPr/>
        </p:nvSpPr>
        <p:spPr>
          <a:xfrm>
            <a:off x="6705720" y="388944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6"/>
          <p:cNvSpPr/>
          <p:nvPr/>
        </p:nvSpPr>
        <p:spPr>
          <a:xfrm>
            <a:off x="55627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7"/>
          <p:cNvSpPr/>
          <p:nvPr/>
        </p:nvSpPr>
        <p:spPr>
          <a:xfrm>
            <a:off x="69343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9"/>
          <p:cNvSpPr/>
          <p:nvPr/>
        </p:nvSpPr>
        <p:spPr>
          <a:xfrm>
            <a:off x="55627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30"/>
          <p:cNvSpPr/>
          <p:nvPr/>
        </p:nvSpPr>
        <p:spPr>
          <a:xfrm>
            <a:off x="69343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3"/>
          <p:cNvSpPr/>
          <p:nvPr/>
        </p:nvSpPr>
        <p:spPr>
          <a:xfrm>
            <a:off x="55627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69343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6"/>
          <p:cNvSpPr/>
          <p:nvPr/>
        </p:nvSpPr>
        <p:spPr>
          <a:xfrm>
            <a:off x="5334120" y="57182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7"/>
          <p:cNvSpPr/>
          <p:nvPr/>
        </p:nvSpPr>
        <p:spPr>
          <a:xfrm>
            <a:off x="5334120" y="32036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0"/>
          <p:cNvSpPr/>
          <p:nvPr/>
        </p:nvSpPr>
        <p:spPr>
          <a:xfrm>
            <a:off x="6248520" y="33559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6248520" y="57942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2"/>
          <p:cNvSpPr/>
          <p:nvPr/>
        </p:nvSpPr>
        <p:spPr>
          <a:xfrm>
            <a:off x="838080" y="2895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3"/>
          <p:cNvSpPr/>
          <p:nvPr/>
        </p:nvSpPr>
        <p:spPr>
          <a:xfrm>
            <a:off x="4800600" y="2895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44"/>
          <p:cNvSpPr/>
          <p:nvPr/>
        </p:nvSpPr>
        <p:spPr>
          <a:xfrm>
            <a:off x="5105520" y="609912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ave to increase cell-width to next allowable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48"/>
          <p:cNvSpPr/>
          <p:nvPr/>
        </p:nvSpPr>
        <p:spPr>
          <a:xfrm>
            <a:off x="6781680" y="3584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Straight Arrow Connector 45"/>
          <p:cNvCxnSpPr/>
          <p:nvPr/>
        </p:nvCxnSpPr>
        <p:spPr>
          <a:xfrm flipV="1">
            <a:off x="6095880" y="373608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6" name="Straight Arrow Connector 47"/>
          <p:cNvCxnSpPr/>
          <p:nvPr/>
        </p:nvCxnSpPr>
        <p:spPr>
          <a:xfrm flipH="1">
            <a:off x="6628680" y="373644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7" name="TextBox 48"/>
          <p:cNvSpPr/>
          <p:nvPr/>
        </p:nvSpPr>
        <p:spPr>
          <a:xfrm>
            <a:off x="6019920" y="3765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5943600" y="4270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48"/>
          <p:cNvSpPr/>
          <p:nvPr/>
        </p:nvSpPr>
        <p:spPr>
          <a:xfrm>
            <a:off x="2438280" y="541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56"/>
          <p:cNvCxnSpPr/>
          <p:nvPr/>
        </p:nvCxnSpPr>
        <p:spPr>
          <a:xfrm>
            <a:off x="1905120" y="4649760"/>
            <a:ext cx="30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1" name="Straight Connector 58"/>
          <p:cNvSpPr/>
          <p:nvPr/>
        </p:nvSpPr>
        <p:spPr>
          <a:xfrm flipH="1" flipV="1">
            <a:off x="2057400" y="4650840"/>
            <a:ext cx="457200" cy="83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63"/>
          <p:cNvCxnSpPr/>
          <p:nvPr/>
        </p:nvCxnSpPr>
        <p:spPr>
          <a:xfrm flipV="1">
            <a:off x="5943240" y="426852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3" name="Slide Number Placeholder 4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C410-A72D-44AF-BE30-F159C75F097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684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pecial characteristics of FreePDK DRs, e.g.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Too small gate-to-contact spacing =&gt; huge effect on POS results for case of redundant contact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arge area overhead for fixed gate-pitch with diffusion power conn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5" name="TextBox 44"/>
          <p:cNvSpPr/>
          <p:nvPr/>
        </p:nvSpPr>
        <p:spPr>
          <a:xfrm>
            <a:off x="838080" y="61531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acted pitch = min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UCLA_DRE Supported Ru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Layout style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 patterning (2D/limited/1D/fixed-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wer-straps (Metal/Active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D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: LEE, LEG, gate-to-CA, gate-to-active, gate-pitch, etc…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Active: spacing, min width, extension beyond gat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: width, spacing, poly/active enclosure, CA to activ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: width, 2D-spacing rules, overha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2/Via1 (ongoing): width, 2D-spaci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x in chip-level evaluation (ongo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Well (ongoing): active-to-well edge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1F5D-098F-4893-BB18-2C7E8C8D902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"/>
          <p:cNvPicPr/>
          <p:nvPr/>
        </p:nvPicPr>
        <p:blipFill>
          <a:blip r:embed="rId1"/>
          <a:stretch/>
        </p:blipFill>
        <p:spPr>
          <a:xfrm>
            <a:off x="582480" y="1136520"/>
            <a:ext cx="7979040" cy="45849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verview of DR Evaluator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28600" y="6095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layout esti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← Fast topology generation + congesti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7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4300-E132-4A08-87A2-4875711D7A9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0"/>
          <p:cNvSpPr/>
          <p:nvPr/>
        </p:nvSpPr>
        <p:spPr>
          <a:xfrm rot="15394200">
            <a:off x="6051960" y="1368720"/>
            <a:ext cx="2440080" cy="2082960"/>
          </a:xfrm>
          <a:prstGeom prst="ellipse">
            <a:avLst/>
          </a:prstGeom>
          <a:noFill/>
          <a:ln w="38160">
            <a:solidFill>
              <a:srgbClr val="526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1"/>
          <p:cNvSpPr/>
          <p:nvPr/>
        </p:nvSpPr>
        <p:spPr>
          <a:xfrm rot="18005400">
            <a:off x="6029280" y="3580920"/>
            <a:ext cx="2220840" cy="1770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7543800" y="5208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7620120" y="9907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Thi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8"/>
          <p:cNvSpPr/>
          <p:nvPr/>
        </p:nvSpPr>
        <p:spPr>
          <a:xfrm>
            <a:off x="4648320" y="3073320"/>
            <a:ext cx="106668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Assumptions and Flow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28240" y="5257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MOS circuits with dual transistors, multiple outputs, any transistor size, 1D transistor placement, i.e. on same row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ntra-cell routing in poly and M1 layers only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(M2 ongoing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7086600" y="261612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648320" y="36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7086600" y="36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4648320" y="27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9528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7242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51814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54100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8672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3244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65530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56386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86600" y="27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391520" y="2463840"/>
            <a:ext cx="152280" cy="18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7848720" y="261612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71629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80773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76201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47242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60958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8"/>
          <p:cNvSpPr/>
          <p:nvPr/>
        </p:nvSpPr>
        <p:spPr>
          <a:xfrm>
            <a:off x="65530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56386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0"/>
          <p:cNvSpPr/>
          <p:nvPr/>
        </p:nvSpPr>
        <p:spPr>
          <a:xfrm>
            <a:off x="71629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80773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76201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3"/>
          <p:cNvSpPr/>
          <p:nvPr/>
        </p:nvSpPr>
        <p:spPr>
          <a:xfrm>
            <a:off x="82296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82296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3"/>
          <p:cNvSpPr/>
          <p:nvPr/>
        </p:nvSpPr>
        <p:spPr>
          <a:xfrm>
            <a:off x="3276720" y="28195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5"/>
          <p:cNvSpPr/>
          <p:nvPr/>
        </p:nvSpPr>
        <p:spPr>
          <a:xfrm>
            <a:off x="3276720" y="23623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33526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38098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40384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35812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8"/>
          <p:cNvSpPr/>
          <p:nvPr/>
        </p:nvSpPr>
        <p:spPr>
          <a:xfrm>
            <a:off x="33526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9"/>
          <p:cNvSpPr/>
          <p:nvPr/>
        </p:nvSpPr>
        <p:spPr>
          <a:xfrm>
            <a:off x="38098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0"/>
          <p:cNvSpPr/>
          <p:nvPr/>
        </p:nvSpPr>
        <p:spPr>
          <a:xfrm>
            <a:off x="3581280" y="2209680"/>
            <a:ext cx="15264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eft Brace 51"/>
          <p:cNvSpPr/>
          <p:nvPr/>
        </p:nvSpPr>
        <p:spPr>
          <a:xfrm rot="16200000">
            <a:off x="7505640" y="387324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219320"/>
              <a:gd name="textAreaBottom" fmla="*/ 12096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eft Brace 52"/>
          <p:cNvSpPr/>
          <p:nvPr/>
        </p:nvSpPr>
        <p:spPr>
          <a:xfrm rot="16200000">
            <a:off x="5067360" y="410220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1760"/>
              <a:gd name="textAreaBottom" fmla="*/ 7520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2"/>
          <p:cNvSpPr/>
          <p:nvPr/>
        </p:nvSpPr>
        <p:spPr>
          <a:xfrm>
            <a:off x="7112160" y="4673520"/>
            <a:ext cx="132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82"/>
          <p:cNvSpPr/>
          <p:nvPr/>
        </p:nvSpPr>
        <p:spPr>
          <a:xfrm>
            <a:off x="4495680" y="46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5"/>
          <p:cNvSpPr/>
          <p:nvPr/>
        </p:nvSpPr>
        <p:spPr>
          <a:xfrm>
            <a:off x="3352680" y="4343400"/>
            <a:ext cx="6098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iped Right Arrow 56"/>
          <p:cNvSpPr/>
          <p:nvPr/>
        </p:nvSpPr>
        <p:spPr>
          <a:xfrm rot="5400000">
            <a:off x="3352680" y="3581280"/>
            <a:ext cx="609840" cy="609840"/>
          </a:xfrm>
          <a:custGeom>
            <a:avLst/>
            <a:gdLst>
              <a:gd name="textAreaLeft" fmla="*/ 95040 w 609840"/>
              <a:gd name="textAreaRight" fmla="*/ 457560 w 6098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609600" h="609600">
                <a:moveTo>
                  <a:pt x="0" y="152400"/>
                </a:moveTo>
                <a:lnTo>
                  <a:pt x="19050" y="152400"/>
                </a:lnTo>
                <a:lnTo>
                  <a:pt x="19050" y="457200"/>
                </a:lnTo>
                <a:lnTo>
                  <a:pt x="0" y="457200"/>
                </a:lnTo>
                <a:close/>
                <a:moveTo>
                  <a:pt x="38100" y="152400"/>
                </a:moveTo>
                <a:lnTo>
                  <a:pt x="76200" y="152400"/>
                </a:lnTo>
                <a:lnTo>
                  <a:pt x="76200" y="457200"/>
                </a:lnTo>
                <a:lnTo>
                  <a:pt x="38100" y="457200"/>
                </a:lnTo>
                <a:close/>
                <a:moveTo>
                  <a:pt x="95250" y="152400"/>
                </a:moveTo>
                <a:lnTo>
                  <a:pt x="304800" y="152400"/>
                </a:lnTo>
                <a:lnTo>
                  <a:pt x="304800" y="0"/>
                </a:lnTo>
                <a:lnTo>
                  <a:pt x="609600" y="304800"/>
                </a:lnTo>
                <a:lnTo>
                  <a:pt x="304800" y="609600"/>
                </a:lnTo>
                <a:lnTo>
                  <a:pt x="304800" y="457200"/>
                </a:lnTo>
                <a:lnTo>
                  <a:pt x="95250" y="457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2"/>
          <p:cNvSpPr/>
          <p:nvPr/>
        </p:nvSpPr>
        <p:spPr>
          <a:xfrm>
            <a:off x="2209680" y="25146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2"/>
          <p:cNvSpPr/>
          <p:nvPr/>
        </p:nvSpPr>
        <p:spPr>
          <a:xfrm>
            <a:off x="2209680" y="40640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9"/>
          <p:cNvSpPr/>
          <p:nvPr/>
        </p:nvSpPr>
        <p:spPr>
          <a:xfrm>
            <a:off x="1295280" y="3835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0"/>
          <p:cNvSpPr/>
          <p:nvPr/>
        </p:nvSpPr>
        <p:spPr>
          <a:xfrm>
            <a:off x="1295280" y="2692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1"/>
          <p:cNvSpPr/>
          <p:nvPr/>
        </p:nvSpPr>
        <p:spPr>
          <a:xfrm>
            <a:off x="1600200" y="254016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2"/>
          <p:cNvSpPr/>
          <p:nvPr/>
        </p:nvSpPr>
        <p:spPr>
          <a:xfrm>
            <a:off x="18288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3"/>
          <p:cNvSpPr/>
          <p:nvPr/>
        </p:nvSpPr>
        <p:spPr>
          <a:xfrm>
            <a:off x="13716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4"/>
          <p:cNvSpPr/>
          <p:nvPr/>
        </p:nvSpPr>
        <p:spPr>
          <a:xfrm>
            <a:off x="18288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5"/>
          <p:cNvSpPr/>
          <p:nvPr/>
        </p:nvSpPr>
        <p:spPr>
          <a:xfrm>
            <a:off x="13716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6"/>
          <p:cNvSpPr/>
          <p:nvPr/>
        </p:nvSpPr>
        <p:spPr>
          <a:xfrm>
            <a:off x="1828800" y="2768760"/>
            <a:ext cx="152280" cy="14475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 Brace 67"/>
          <p:cNvSpPr/>
          <p:nvPr/>
        </p:nvSpPr>
        <p:spPr>
          <a:xfrm>
            <a:off x="914400" y="254016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828800"/>
              <a:gd name="textAreaBottom" fmla="*/ 1820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2"/>
          <p:cNvSpPr/>
          <p:nvPr/>
        </p:nvSpPr>
        <p:spPr>
          <a:xfrm>
            <a:off x="-76320" y="30988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2"/>
          <p:cNvSpPr/>
          <p:nvPr/>
        </p:nvSpPr>
        <p:spPr>
          <a:xfrm>
            <a:off x="571500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D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E917-9FAB-43CB-86B9-625FA2D3445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Flowchart: Process 72"/>
          <p:cNvGrpSpPr/>
          <p:nvPr/>
        </p:nvGrpSpPr>
        <p:grpSpPr>
          <a:xfrm>
            <a:off x="1000080" y="1030320"/>
            <a:ext cx="1047960" cy="1103400"/>
            <a:chOff x="1000080" y="1030320"/>
            <a:chExt cx="1047960" cy="1103400"/>
          </a:xfrm>
        </p:grpSpPr>
        <p:pic>
          <p:nvPicPr>
            <p:cNvPr id="620" name="Flowchart: Process 72" descr=""/>
            <p:cNvPicPr/>
            <p:nvPr/>
          </p:nvPicPr>
          <p:blipFill>
            <a:blip r:embed="rId1"/>
            <a:stretch/>
          </p:blipFill>
          <p:spPr>
            <a:xfrm>
              <a:off x="1000080" y="1030320"/>
              <a:ext cx="104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066680" y="10666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ai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Flowchart: Process 73"/>
          <p:cNvGrpSpPr/>
          <p:nvPr/>
        </p:nvGrpSpPr>
        <p:grpSpPr>
          <a:xfrm>
            <a:off x="3067200" y="1030320"/>
            <a:ext cx="1103040" cy="1103400"/>
            <a:chOff x="3067200" y="1030320"/>
            <a:chExt cx="1103040" cy="1103400"/>
          </a:xfrm>
        </p:grpSpPr>
        <p:pic>
          <p:nvPicPr>
            <p:cNvPr id="623" name="Flowchart: Process 73" descr=""/>
            <p:cNvPicPr/>
            <p:nvPr/>
          </p:nvPicPr>
          <p:blipFill>
            <a:blip r:embed="rId2"/>
            <a:stretch/>
          </p:blipFill>
          <p:spPr>
            <a:xfrm>
              <a:off x="3067200" y="1030320"/>
              <a:ext cx="11030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124080" y="106668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o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Flowchart: Process 75"/>
          <p:cNvGrpSpPr/>
          <p:nvPr/>
        </p:nvGrpSpPr>
        <p:grpSpPr>
          <a:xfrm>
            <a:off x="5089680" y="1030320"/>
            <a:ext cx="1317600" cy="1103400"/>
            <a:chOff x="5089680" y="1030320"/>
            <a:chExt cx="1317600" cy="1103400"/>
          </a:xfrm>
        </p:grpSpPr>
        <p:pic>
          <p:nvPicPr>
            <p:cNvPr id="626" name="Flowchart: Process 75" descr=""/>
            <p:cNvPicPr/>
            <p:nvPr/>
          </p:nvPicPr>
          <p:blipFill>
            <a:blip r:embed="rId3"/>
            <a:stretch/>
          </p:blipFill>
          <p:spPr>
            <a:xfrm>
              <a:off x="5089680" y="103032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181480" y="106668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ing/St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Flowchart: Process 76"/>
          <p:cNvGrpSpPr/>
          <p:nvPr/>
        </p:nvGrpSpPr>
        <p:grpSpPr>
          <a:xfrm>
            <a:off x="7315200" y="1030320"/>
            <a:ext cx="1432080" cy="1103400"/>
            <a:chOff x="7315200" y="1030320"/>
            <a:chExt cx="1432080" cy="1103400"/>
          </a:xfrm>
        </p:grpSpPr>
        <p:pic>
          <p:nvPicPr>
            <p:cNvPr id="629" name="Flowchart: Process 76" descr=""/>
            <p:cNvPicPr/>
            <p:nvPr/>
          </p:nvPicPr>
          <p:blipFill>
            <a:blip r:embed="rId4"/>
            <a:stretch/>
          </p:blipFill>
          <p:spPr>
            <a:xfrm>
              <a:off x="7315200" y="1030320"/>
              <a:ext cx="1432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391520" y="1066680"/>
              <a:ext cx="1295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ransisto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rd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Striped Right Arrow 77"/>
          <p:cNvGrpSpPr/>
          <p:nvPr/>
        </p:nvGrpSpPr>
        <p:grpSpPr>
          <a:xfrm>
            <a:off x="2225520" y="1262160"/>
            <a:ext cx="725760" cy="718920"/>
            <a:chOff x="2225520" y="1262160"/>
            <a:chExt cx="725760" cy="718920"/>
          </a:xfrm>
        </p:grpSpPr>
        <p:pic>
          <p:nvPicPr>
            <p:cNvPr id="632" name="Striped Right Arrow 77" descr=""/>
            <p:cNvPicPr/>
            <p:nvPr/>
          </p:nvPicPr>
          <p:blipFill>
            <a:blip r:embed="rId5"/>
            <a:stretch/>
          </p:blipFill>
          <p:spPr>
            <a:xfrm>
              <a:off x="2225520" y="1262160"/>
              <a:ext cx="725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3814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Striped Right Arrow 78"/>
          <p:cNvGrpSpPr/>
          <p:nvPr/>
        </p:nvGrpSpPr>
        <p:grpSpPr>
          <a:xfrm>
            <a:off x="4286160" y="1262160"/>
            <a:ext cx="723960" cy="718920"/>
            <a:chOff x="4286160" y="1262160"/>
            <a:chExt cx="723960" cy="718920"/>
          </a:xfrm>
        </p:grpSpPr>
        <p:pic>
          <p:nvPicPr>
            <p:cNvPr id="635" name="Striped Right Arrow 78" descr=""/>
            <p:cNvPicPr/>
            <p:nvPr/>
          </p:nvPicPr>
          <p:blipFill>
            <a:blip r:embed="rId6"/>
            <a:stretch/>
          </p:blipFill>
          <p:spPr>
            <a:xfrm>
              <a:off x="4286160" y="1262160"/>
              <a:ext cx="723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4388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Striped Right Arrow 79"/>
          <p:cNvGrpSpPr/>
          <p:nvPr/>
        </p:nvGrpSpPr>
        <p:grpSpPr>
          <a:xfrm>
            <a:off x="6492960" y="1262160"/>
            <a:ext cx="725400" cy="718920"/>
            <a:chOff x="6492960" y="1262160"/>
            <a:chExt cx="725400" cy="718920"/>
          </a:xfrm>
        </p:grpSpPr>
        <p:pic>
          <p:nvPicPr>
            <p:cNvPr id="638" name="Striped Right Arrow 79" descr=""/>
            <p:cNvPicPr/>
            <p:nvPr/>
          </p:nvPicPr>
          <p:blipFill>
            <a:blip r:embed="rId7"/>
            <a:stretch/>
          </p:blipFill>
          <p:spPr>
            <a:xfrm>
              <a:off x="6492960" y="126216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64848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83" descr=""/>
          <p:cNvPicPr/>
          <p:nvPr/>
        </p:nvPicPr>
        <p:blipFill>
          <a:blip r:embed="rId1"/>
          <a:stretch/>
        </p:blipFill>
        <p:spPr>
          <a:xfrm>
            <a:off x="593640" y="137160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Pai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495360" y="914400"/>
            <a:ext cx="255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841A-61A0-4B06-903F-A7D7844A7DD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55623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Matching problem solved optimally with </a:t>
            </a:r>
            <a:r>
              <a:rPr b="0" i="1" lang="en-US" sz="2300" spc="-1" strike="noStrike">
                <a:solidFill>
                  <a:srgbClr val="526895"/>
                </a:solidFill>
                <a:latin typeface="Arial"/>
              </a:rPr>
              <a:t>Hungarian algorithm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3" name="TextBox 121"/>
          <p:cNvSpPr/>
          <p:nvPr/>
        </p:nvSpPr>
        <p:spPr>
          <a:xfrm>
            <a:off x="1606680" y="12304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22"/>
          <p:cNvSpPr/>
          <p:nvPr/>
        </p:nvSpPr>
        <p:spPr>
          <a:xfrm>
            <a:off x="1432080" y="20574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0"/>
          <p:cNvSpPr/>
          <p:nvPr/>
        </p:nvSpPr>
        <p:spPr>
          <a:xfrm>
            <a:off x="517680" y="1839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20"/>
          <p:cNvSpPr/>
          <p:nvPr/>
        </p:nvSpPr>
        <p:spPr>
          <a:xfrm>
            <a:off x="289080" y="16002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0"/>
          <p:cNvSpPr/>
          <p:nvPr/>
        </p:nvSpPr>
        <p:spPr>
          <a:xfrm>
            <a:off x="1282680" y="25257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0"/>
          <p:cNvSpPr/>
          <p:nvPr/>
        </p:nvSpPr>
        <p:spPr>
          <a:xfrm>
            <a:off x="673200" y="2514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0"/>
          <p:cNvSpPr/>
          <p:nvPr/>
        </p:nvSpPr>
        <p:spPr>
          <a:xfrm>
            <a:off x="289080" y="20574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20"/>
          <p:cNvSpPr/>
          <p:nvPr/>
        </p:nvSpPr>
        <p:spPr>
          <a:xfrm>
            <a:off x="9777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0"/>
          <p:cNvSpPr/>
          <p:nvPr/>
        </p:nvSpPr>
        <p:spPr>
          <a:xfrm>
            <a:off x="15843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0"/>
          <p:cNvSpPr/>
          <p:nvPr/>
        </p:nvSpPr>
        <p:spPr>
          <a:xfrm>
            <a:off x="974880" y="2982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0"/>
          <p:cNvSpPr/>
          <p:nvPr/>
        </p:nvSpPr>
        <p:spPr>
          <a:xfrm>
            <a:off x="974880" y="34401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24"/>
          <p:cNvSpPr/>
          <p:nvPr/>
        </p:nvSpPr>
        <p:spPr>
          <a:xfrm>
            <a:off x="1508040" y="2906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5"/>
          <p:cNvSpPr/>
          <p:nvPr/>
        </p:nvSpPr>
        <p:spPr>
          <a:xfrm>
            <a:off x="14540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25"/>
          <p:cNvSpPr/>
          <p:nvPr/>
        </p:nvSpPr>
        <p:spPr>
          <a:xfrm>
            <a:off x="1508040" y="366876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3"/>
          <p:cNvSpPr/>
          <p:nvPr/>
        </p:nvSpPr>
        <p:spPr>
          <a:xfrm>
            <a:off x="1812960" y="2449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3"/>
          <p:cNvSpPr/>
          <p:nvPr/>
        </p:nvSpPr>
        <p:spPr>
          <a:xfrm>
            <a:off x="2346480" y="2209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3"/>
          <p:cNvSpPr/>
          <p:nvPr/>
        </p:nvSpPr>
        <p:spPr>
          <a:xfrm>
            <a:off x="28908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3"/>
          <p:cNvSpPr/>
          <p:nvPr/>
        </p:nvSpPr>
        <p:spPr>
          <a:xfrm>
            <a:off x="31104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23"/>
          <p:cNvSpPr/>
          <p:nvPr/>
        </p:nvSpPr>
        <p:spPr>
          <a:xfrm>
            <a:off x="1149480" y="4495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23"/>
          <p:cNvSpPr/>
          <p:nvPr/>
        </p:nvSpPr>
        <p:spPr>
          <a:xfrm>
            <a:off x="153036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3"/>
          <p:cNvSpPr/>
          <p:nvPr/>
        </p:nvSpPr>
        <p:spPr>
          <a:xfrm>
            <a:off x="153036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23"/>
          <p:cNvSpPr/>
          <p:nvPr/>
        </p:nvSpPr>
        <p:spPr>
          <a:xfrm>
            <a:off x="2171880" y="434340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iped Right Arrow 122"/>
          <p:cNvSpPr/>
          <p:nvPr/>
        </p:nvSpPr>
        <p:spPr>
          <a:xfrm>
            <a:off x="3048120" y="2590920"/>
            <a:ext cx="533160" cy="609480"/>
          </a:xfrm>
          <a:custGeom>
            <a:avLst/>
            <a:gdLst>
              <a:gd name="textAreaLeft" fmla="*/ 83160 w 533160"/>
              <a:gd name="textAreaRight" fmla="*/ 399960 w 5331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4038480" y="2773440"/>
          <a:ext cx="4038840" cy="2560680"/>
        </p:xfrm>
        <a:graphic>
          <a:graphicData uri="http://schemas.openxmlformats.org/drawingml/2006/table">
            <a:tbl>
              <a:tblPr/>
              <a:tblGrid>
                <a:gridCol w="576360"/>
                <a:gridCol w="577800"/>
                <a:gridCol w="576360"/>
                <a:gridCol w="577800"/>
                <a:gridCol w="576360"/>
                <a:gridCol w="577800"/>
                <a:gridCol w="5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Rectangle 93"/>
          <p:cNvSpPr/>
          <p:nvPr/>
        </p:nvSpPr>
        <p:spPr>
          <a:xfrm>
            <a:off x="57150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4"/>
          <p:cNvSpPr/>
          <p:nvPr/>
        </p:nvSpPr>
        <p:spPr>
          <a:xfrm>
            <a:off x="5715000" y="83808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5"/>
          <p:cNvSpPr/>
          <p:nvPr/>
        </p:nvSpPr>
        <p:spPr>
          <a:xfrm>
            <a:off x="6019920" y="685800"/>
            <a:ext cx="15228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6"/>
          <p:cNvSpPr/>
          <p:nvPr/>
        </p:nvSpPr>
        <p:spPr>
          <a:xfrm>
            <a:off x="62485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7"/>
          <p:cNvSpPr/>
          <p:nvPr/>
        </p:nvSpPr>
        <p:spPr>
          <a:xfrm>
            <a:off x="57913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8"/>
          <p:cNvSpPr/>
          <p:nvPr/>
        </p:nvSpPr>
        <p:spPr>
          <a:xfrm>
            <a:off x="62485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9"/>
          <p:cNvSpPr/>
          <p:nvPr/>
        </p:nvSpPr>
        <p:spPr>
          <a:xfrm>
            <a:off x="57913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00"/>
          <p:cNvSpPr/>
          <p:nvPr/>
        </p:nvSpPr>
        <p:spPr>
          <a:xfrm>
            <a:off x="6248520" y="9144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eft Brace 101"/>
          <p:cNvSpPr/>
          <p:nvPr/>
        </p:nvSpPr>
        <p:spPr>
          <a:xfrm flipH="1">
            <a:off x="6477120" y="762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2"/>
          <p:cNvSpPr/>
          <p:nvPr/>
        </p:nvSpPr>
        <p:spPr>
          <a:xfrm>
            <a:off x="6781680" y="1262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2"/>
          <p:cNvSpPr/>
          <p:nvPr/>
        </p:nvSpPr>
        <p:spPr>
          <a:xfrm>
            <a:off x="4952880" y="22860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ing scor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6"/>
          <p:cNvSpPr/>
          <p:nvPr/>
        </p:nvSpPr>
        <p:spPr>
          <a:xfrm>
            <a:off x="3200400" y="2971800"/>
            <a:ext cx="7621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Folding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Given fixed cell height (as a rule), exhaustive search to find optimal p/n transistor folding sizes.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Transistor pairs with a larger height are then folded into multiple pairs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129E-EA07-48F8-A077-A534AC4C108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3200400" y="20574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2004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4952880" y="182880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50292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59436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32767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37339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3505320" y="1447920"/>
            <a:ext cx="15228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5257800" y="2590920"/>
            <a:ext cx="6094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iped Right Arrow 18"/>
          <p:cNvSpPr/>
          <p:nvPr/>
        </p:nvSpPr>
        <p:spPr>
          <a:xfrm>
            <a:off x="4267080" y="2514600"/>
            <a:ext cx="381240" cy="380880"/>
          </a:xfrm>
          <a:custGeom>
            <a:avLst/>
            <a:gdLst>
              <a:gd name="textAreaLeft" fmla="*/ 5940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close/>
                <a:moveTo>
                  <a:pt x="59531" y="95250"/>
                </a:moveTo>
                <a:lnTo>
                  <a:pt x="190500" y="95250"/>
                </a:lnTo>
                <a:lnTo>
                  <a:pt x="190500" y="0"/>
                </a:lnTo>
                <a:lnTo>
                  <a:pt x="381000" y="190500"/>
                </a:lnTo>
                <a:lnTo>
                  <a:pt x="190500" y="381000"/>
                </a:lnTo>
                <a:lnTo>
                  <a:pt x="190500" y="285750"/>
                </a:lnTo>
                <a:lnTo>
                  <a:pt x="59531" y="28575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2"/>
          <p:cNvSpPr/>
          <p:nvPr/>
        </p:nvSpPr>
        <p:spPr>
          <a:xfrm>
            <a:off x="2057400" y="22860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82"/>
          <p:cNvSpPr/>
          <p:nvPr/>
        </p:nvSpPr>
        <p:spPr>
          <a:xfrm>
            <a:off x="6248520" y="2293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3200400" y="3276720"/>
            <a:ext cx="762120" cy="3045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32767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4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3505320" y="2666880"/>
            <a:ext cx="15228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7"/>
          <p:cNvSpPr/>
          <p:nvPr/>
        </p:nvSpPr>
        <p:spPr>
          <a:xfrm>
            <a:off x="4952880" y="3124080"/>
            <a:ext cx="12193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8"/>
          <p:cNvSpPr/>
          <p:nvPr/>
        </p:nvSpPr>
        <p:spPr>
          <a:xfrm>
            <a:off x="50292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9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54864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57150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2578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83" descr=""/>
          <p:cNvPicPr/>
          <p:nvPr/>
        </p:nvPicPr>
        <p:blipFill>
          <a:blip r:embed="rId1"/>
          <a:stretch/>
        </p:blipFill>
        <p:spPr>
          <a:xfrm>
            <a:off x="1279440" y="90324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0" y="2666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53"/>
          <p:cNvSpPr/>
          <p:nvPr/>
        </p:nvSpPr>
        <p:spPr>
          <a:xfrm>
            <a:off x="5943600" y="609480"/>
            <a:ext cx="222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PARTIT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64C9-13B4-4C45-81ED-F29FA915ED3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7" descr=""/>
          <p:cNvPicPr/>
          <p:nvPr/>
        </p:nvPicPr>
        <p:blipFill>
          <a:blip r:embed="rId2"/>
          <a:stretch/>
        </p:blipFill>
        <p:spPr>
          <a:xfrm>
            <a:off x="6438960" y="4033800"/>
            <a:ext cx="419040" cy="2858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8" descr=""/>
          <p:cNvPicPr/>
          <p:nvPr/>
        </p:nvPicPr>
        <p:blipFill>
          <a:blip r:embed="rId3"/>
          <a:stretch/>
        </p:blipFill>
        <p:spPr>
          <a:xfrm>
            <a:off x="7105680" y="4344840"/>
            <a:ext cx="447480" cy="276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"/>
          <p:cNvPicPr/>
          <p:nvPr/>
        </p:nvPicPr>
        <p:blipFill>
          <a:blip r:embed="rId4"/>
          <a:stretch/>
        </p:blipFill>
        <p:spPr>
          <a:xfrm>
            <a:off x="6429240" y="36957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5" descr=""/>
          <p:cNvPicPr/>
          <p:nvPr/>
        </p:nvPicPr>
        <p:blipFill>
          <a:blip r:embed="rId5"/>
          <a:stretch/>
        </p:blipFill>
        <p:spPr>
          <a:xfrm>
            <a:off x="6419880" y="2781360"/>
            <a:ext cx="438120" cy="2858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"/>
          <p:cNvPicPr/>
          <p:nvPr/>
        </p:nvPicPr>
        <p:blipFill>
          <a:blip r:embed="rId6"/>
          <a:stretch/>
        </p:blipFill>
        <p:spPr>
          <a:xfrm>
            <a:off x="7105680" y="1430280"/>
            <a:ext cx="447480" cy="2858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3" descr=""/>
          <p:cNvPicPr/>
          <p:nvPr/>
        </p:nvPicPr>
        <p:blipFill>
          <a:blip r:embed="rId7"/>
          <a:stretch/>
        </p:blipFill>
        <p:spPr>
          <a:xfrm>
            <a:off x="7134120" y="3564000"/>
            <a:ext cx="428760" cy="276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2" descr=""/>
          <p:cNvPicPr/>
          <p:nvPr/>
        </p:nvPicPr>
        <p:blipFill>
          <a:blip r:embed="rId8"/>
          <a:stretch/>
        </p:blipFill>
        <p:spPr>
          <a:xfrm>
            <a:off x="6572160" y="2278080"/>
            <a:ext cx="44784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0" descr=""/>
          <p:cNvPicPr/>
          <p:nvPr/>
        </p:nvPicPr>
        <p:blipFill>
          <a:blip r:embed="rId9"/>
          <a:stretch/>
        </p:blipFill>
        <p:spPr>
          <a:xfrm>
            <a:off x="6429240" y="1792440"/>
            <a:ext cx="447840" cy="285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10"/>
          <a:stretch/>
        </p:blipFill>
        <p:spPr>
          <a:xfrm>
            <a:off x="7105680" y="3127320"/>
            <a:ext cx="447480" cy="257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" descr=""/>
          <p:cNvPicPr/>
          <p:nvPr/>
        </p:nvPicPr>
        <p:blipFill>
          <a:blip r:embed="rId11"/>
          <a:stretch/>
        </p:blipFill>
        <p:spPr>
          <a:xfrm>
            <a:off x="7105680" y="1049400"/>
            <a:ext cx="457200" cy="32364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7"/>
          <p:cNvSpPr/>
          <p:nvPr/>
        </p:nvSpPr>
        <p:spPr>
          <a:xfrm>
            <a:off x="5867280" y="1219320"/>
            <a:ext cx="552600" cy="565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565200"/>
              <a:gd name="textAreaBottom" fmla="*/ 538560 h 565200"/>
            </a:gdLst>
            <a:ahLst/>
            <a:rect l="textAreaLeft" t="textAreaTop" r="textAreaRight" b="textAreaBottom"/>
            <a:pathLst>
              <a:path w="21600" h="22092">
                <a:moveTo>
                  <a:pt x="3600" y="0"/>
                </a:moveTo>
                <a:arcTo wR="3600" hR="3600" stAng="16200000" swAng="-5400000"/>
                <a:lnTo>
                  <a:pt x="0" y="18492"/>
                </a:lnTo>
                <a:arcTo wR="3600" hR="3600" stAng="10800000" swAng="-5400000"/>
                <a:lnTo>
                  <a:pt x="18000" y="22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ed Rectangle 10"/>
          <p:cNvSpPr/>
          <p:nvPr/>
        </p:nvSpPr>
        <p:spPr>
          <a:xfrm>
            <a:off x="5867280" y="3097080"/>
            <a:ext cx="552600" cy="1600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1600200"/>
              <a:gd name="textAreaBottom" fmla="*/ 1573560 h 1600200"/>
            </a:gdLst>
            <a:ahLst/>
            <a:rect l="textAreaLeft" t="textAreaTop" r="textAreaRight" b="textAreaBottom"/>
            <a:pathLst>
              <a:path w="21600" h="62522">
                <a:moveTo>
                  <a:pt x="3600" y="0"/>
                </a:moveTo>
                <a:arcTo wR="3600" hR="3600" stAng="16200000" swAng="-5400000"/>
                <a:lnTo>
                  <a:pt x="0" y="58922"/>
                </a:lnTo>
                <a:arcTo wR="3600" hR="3600" stAng="10800000" swAng="-5400000"/>
                <a:lnTo>
                  <a:pt x="18000" y="62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11"/>
          <p:cNvSpPr/>
          <p:nvPr/>
        </p:nvSpPr>
        <p:spPr>
          <a:xfrm>
            <a:off x="5867280" y="2039760"/>
            <a:ext cx="552600" cy="80676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806760"/>
              <a:gd name="textAreaBottom" fmla="*/ 780120 h 806760"/>
            </a:gdLst>
            <a:ahLst/>
            <a:rect l="textAreaLeft" t="textAreaTop" r="textAreaRight" b="textAreaBottom"/>
            <a:pathLst>
              <a:path w="21600" h="31528">
                <a:moveTo>
                  <a:pt x="3600" y="0"/>
                </a:moveTo>
                <a:arcTo wR="3600" hR="3600" stAng="16200000" swAng="-5400000"/>
                <a:lnTo>
                  <a:pt x="0" y="27928"/>
                </a:lnTo>
                <a:arcTo wR="3600" hR="3600" stAng="10800000" swAng="-5400000"/>
                <a:lnTo>
                  <a:pt x="18000" y="31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12"/>
          <p:cNvSpPr/>
          <p:nvPr/>
        </p:nvSpPr>
        <p:spPr>
          <a:xfrm>
            <a:off x="7593120" y="1057320"/>
            <a:ext cx="560160" cy="565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565200"/>
              <a:gd name="textAreaBottom" fmla="*/ 537840 h 56520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13"/>
          <p:cNvSpPr/>
          <p:nvPr/>
        </p:nvSpPr>
        <p:spPr>
          <a:xfrm>
            <a:off x="7593120" y="2670120"/>
            <a:ext cx="560160" cy="727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727200"/>
              <a:gd name="textAreaBottom" fmla="*/ 699840 h 727200"/>
            </a:gdLst>
            <a:ahLst/>
            <a:rect l="textAreaLeft" t="textAreaTop" r="textAreaRight" b="textAreaBottom"/>
            <a:pathLst>
              <a:path w="21600" h="28037">
                <a:moveTo>
                  <a:pt x="3600" y="0"/>
                </a:moveTo>
                <a:arcTo wR="3600" hR="3600" stAng="16200000" swAng="-5400000"/>
                <a:lnTo>
                  <a:pt x="0" y="24437"/>
                </a:lnTo>
                <a:arcTo wR="3600" hR="3600" stAng="10800000" swAng="-5400000"/>
                <a:lnTo>
                  <a:pt x="18000" y="28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14"/>
          <p:cNvSpPr/>
          <p:nvPr/>
        </p:nvSpPr>
        <p:spPr>
          <a:xfrm>
            <a:off x="7593120" y="3487680"/>
            <a:ext cx="560160" cy="129528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1295280"/>
              <a:gd name="textAreaBottom" fmla="*/ 1267920 h 1295280"/>
            </a:gdLst>
            <a:ahLst/>
            <a:rect l="textAreaLeft" t="textAreaTop" r="textAreaRight" b="textAreaBottom"/>
            <a:pathLst>
              <a:path w="21600" h="49928">
                <a:moveTo>
                  <a:pt x="3600" y="0"/>
                </a:moveTo>
                <a:arcTo wR="3600" hR="3600" stAng="16200000" swAng="-5400000"/>
                <a:lnTo>
                  <a:pt x="0" y="46328"/>
                </a:lnTo>
                <a:arcTo wR="3600" hR="3600" stAng="10800000" swAng="-5400000"/>
                <a:lnTo>
                  <a:pt x="18000" y="49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15"/>
          <p:cNvSpPr/>
          <p:nvPr/>
        </p:nvSpPr>
        <p:spPr>
          <a:xfrm>
            <a:off x="7593120" y="1703520"/>
            <a:ext cx="560160" cy="8874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887400"/>
              <a:gd name="textAreaBottom" fmla="*/ 860040 h 887400"/>
            </a:gdLst>
            <a:ahLst/>
            <a:rect l="textAreaLeft" t="textAreaTop" r="textAreaRight" b="textAreaBottom"/>
            <a:pathLst>
              <a:path w="21600" h="34210">
                <a:moveTo>
                  <a:pt x="3600" y="0"/>
                </a:moveTo>
                <a:arcTo wR="3600" hR="3600" stAng="16200000" swAng="-5400000"/>
                <a:lnTo>
                  <a:pt x="0" y="30610"/>
                </a:lnTo>
                <a:arcTo wR="3600" hR="3600" stAng="10800000" swAng="-5400000"/>
                <a:lnTo>
                  <a:pt x="18000" y="3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4"/>
          <p:cNvSpPr/>
          <p:nvPr/>
        </p:nvSpPr>
        <p:spPr>
          <a:xfrm flipV="1">
            <a:off x="6419880" y="1339920"/>
            <a:ext cx="116208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6"/>
          <p:cNvSpPr/>
          <p:nvPr/>
        </p:nvSpPr>
        <p:spPr>
          <a:xfrm>
            <a:off x="6419880" y="1501920"/>
            <a:ext cx="116208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0"/>
          <p:cNvSpPr/>
          <p:nvPr/>
        </p:nvSpPr>
        <p:spPr>
          <a:xfrm>
            <a:off x="6419880" y="3411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31"/>
          <p:cNvSpPr/>
          <p:nvPr/>
        </p:nvSpPr>
        <p:spPr>
          <a:xfrm flipV="1">
            <a:off x="6419880" y="3033720"/>
            <a:ext cx="1173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43"/>
          <p:cNvSpPr/>
          <p:nvPr/>
        </p:nvSpPr>
        <p:spPr>
          <a:xfrm>
            <a:off x="6419880" y="4325760"/>
            <a:ext cx="1162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45"/>
          <p:cNvSpPr/>
          <p:nvPr/>
        </p:nvSpPr>
        <p:spPr>
          <a:xfrm>
            <a:off x="6419880" y="2475000"/>
            <a:ext cx="116208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47"/>
          <p:cNvSpPr/>
          <p:nvPr/>
        </p:nvSpPr>
        <p:spPr>
          <a:xfrm>
            <a:off x="6419880" y="3564000"/>
            <a:ext cx="1162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71"/>
          <p:cNvSpPr/>
          <p:nvPr/>
        </p:nvSpPr>
        <p:spPr>
          <a:xfrm flipV="1">
            <a:off x="6419880" y="2496600"/>
            <a:ext cx="1162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73"/>
          <p:cNvSpPr/>
          <p:nvPr/>
        </p:nvSpPr>
        <p:spPr>
          <a:xfrm flipV="1">
            <a:off x="6419880" y="1963440"/>
            <a:ext cx="1162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20"/>
          <p:cNvSpPr/>
          <p:nvPr/>
        </p:nvSpPr>
        <p:spPr>
          <a:xfrm>
            <a:off x="5410080" y="13809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21"/>
          <p:cNvSpPr/>
          <p:nvPr/>
        </p:nvSpPr>
        <p:spPr>
          <a:xfrm>
            <a:off x="5410080" y="3782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22"/>
          <p:cNvSpPr/>
          <p:nvPr/>
        </p:nvSpPr>
        <p:spPr>
          <a:xfrm>
            <a:off x="5410080" y="23446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3"/>
          <p:cNvSpPr/>
          <p:nvPr/>
        </p:nvSpPr>
        <p:spPr>
          <a:xfrm>
            <a:off x="8175600" y="1219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24"/>
          <p:cNvSpPr/>
          <p:nvPr/>
        </p:nvSpPr>
        <p:spPr>
          <a:xfrm>
            <a:off x="8175600" y="2033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25"/>
          <p:cNvSpPr/>
          <p:nvPr/>
        </p:nvSpPr>
        <p:spPr>
          <a:xfrm>
            <a:off x="8175600" y="2921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26"/>
          <p:cNvSpPr/>
          <p:nvPr/>
        </p:nvSpPr>
        <p:spPr>
          <a:xfrm>
            <a:off x="8175600" y="4049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43"/>
          <p:cNvSpPr/>
          <p:nvPr/>
        </p:nvSpPr>
        <p:spPr>
          <a:xfrm>
            <a:off x="6419880" y="3986280"/>
            <a:ext cx="117324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9" descr=""/>
          <p:cNvPicPr/>
          <p:nvPr/>
        </p:nvPicPr>
        <p:blipFill>
          <a:blip r:embed="rId12"/>
          <a:stretch/>
        </p:blipFill>
        <p:spPr>
          <a:xfrm>
            <a:off x="6419880" y="46306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783" name="Straight Connector 43"/>
          <p:cNvSpPr/>
          <p:nvPr/>
        </p:nvSpPr>
        <p:spPr>
          <a:xfrm>
            <a:off x="6419880" y="4554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1"/>
          <p:cNvSpPr/>
          <p:nvPr/>
        </p:nvSpPr>
        <p:spPr>
          <a:xfrm>
            <a:off x="3581280" y="3711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fol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N1/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4876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Vertic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nodes in netlist and contain pairs the node connects to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dg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ssible diffusion sharing between pair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large # of folds, cluster into groups and treat each as single pai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haining: find maximum set of compatible edg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6" name="TextBox 121"/>
          <p:cNvSpPr/>
          <p:nvPr/>
        </p:nvSpPr>
        <p:spPr>
          <a:xfrm>
            <a:off x="2292480" y="7621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22"/>
          <p:cNvSpPr/>
          <p:nvPr/>
        </p:nvSpPr>
        <p:spPr>
          <a:xfrm>
            <a:off x="2117880" y="15890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0"/>
          <p:cNvSpPr/>
          <p:nvPr/>
        </p:nvSpPr>
        <p:spPr>
          <a:xfrm>
            <a:off x="1203480" y="1371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0"/>
          <p:cNvSpPr/>
          <p:nvPr/>
        </p:nvSpPr>
        <p:spPr>
          <a:xfrm>
            <a:off x="974880" y="11318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20"/>
          <p:cNvSpPr/>
          <p:nvPr/>
        </p:nvSpPr>
        <p:spPr>
          <a:xfrm>
            <a:off x="1968480" y="20574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20"/>
          <p:cNvSpPr/>
          <p:nvPr/>
        </p:nvSpPr>
        <p:spPr>
          <a:xfrm>
            <a:off x="1359000" y="20462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20"/>
          <p:cNvSpPr/>
          <p:nvPr/>
        </p:nvSpPr>
        <p:spPr>
          <a:xfrm>
            <a:off x="974880" y="15890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20"/>
          <p:cNvSpPr/>
          <p:nvPr/>
        </p:nvSpPr>
        <p:spPr>
          <a:xfrm>
            <a:off x="16635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0"/>
          <p:cNvSpPr/>
          <p:nvPr/>
        </p:nvSpPr>
        <p:spPr>
          <a:xfrm>
            <a:off x="22701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0"/>
          <p:cNvSpPr/>
          <p:nvPr/>
        </p:nvSpPr>
        <p:spPr>
          <a:xfrm>
            <a:off x="1660680" y="2514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0"/>
          <p:cNvSpPr/>
          <p:nvPr/>
        </p:nvSpPr>
        <p:spPr>
          <a:xfrm>
            <a:off x="1660680" y="29718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4"/>
          <p:cNvSpPr/>
          <p:nvPr/>
        </p:nvSpPr>
        <p:spPr>
          <a:xfrm>
            <a:off x="2193840" y="2438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25"/>
          <p:cNvSpPr/>
          <p:nvPr/>
        </p:nvSpPr>
        <p:spPr>
          <a:xfrm>
            <a:off x="2139840" y="2732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25"/>
          <p:cNvSpPr/>
          <p:nvPr/>
        </p:nvSpPr>
        <p:spPr>
          <a:xfrm>
            <a:off x="21938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23"/>
          <p:cNvSpPr/>
          <p:nvPr/>
        </p:nvSpPr>
        <p:spPr>
          <a:xfrm>
            <a:off x="2498760" y="1981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23"/>
          <p:cNvSpPr/>
          <p:nvPr/>
        </p:nvSpPr>
        <p:spPr>
          <a:xfrm>
            <a:off x="3032280" y="1741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23"/>
          <p:cNvSpPr/>
          <p:nvPr/>
        </p:nvSpPr>
        <p:spPr>
          <a:xfrm>
            <a:off x="97488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3"/>
          <p:cNvSpPr/>
          <p:nvPr/>
        </p:nvSpPr>
        <p:spPr>
          <a:xfrm>
            <a:off x="99684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23"/>
          <p:cNvSpPr/>
          <p:nvPr/>
        </p:nvSpPr>
        <p:spPr>
          <a:xfrm>
            <a:off x="1835280" y="4027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23"/>
          <p:cNvSpPr/>
          <p:nvPr/>
        </p:nvSpPr>
        <p:spPr>
          <a:xfrm>
            <a:off x="221616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23"/>
          <p:cNvSpPr/>
          <p:nvPr/>
        </p:nvSpPr>
        <p:spPr>
          <a:xfrm>
            <a:off x="221616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23"/>
          <p:cNvSpPr/>
          <p:nvPr/>
        </p:nvSpPr>
        <p:spPr>
          <a:xfrm>
            <a:off x="2857680" y="387504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iped Right Arrow 90"/>
          <p:cNvSpPr/>
          <p:nvPr/>
        </p:nvSpPr>
        <p:spPr>
          <a:xfrm>
            <a:off x="4114800" y="304812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1"/>
          <p:cNvSpPr/>
          <p:nvPr/>
        </p:nvSpPr>
        <p:spPr>
          <a:xfrm>
            <a:off x="3657600" y="1627200"/>
            <a:ext cx="16765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2"/>
          <p:cNvSpPr/>
          <p:nvPr/>
        </p:nvSpPr>
        <p:spPr>
          <a:xfrm>
            <a:off x="39625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3"/>
          <p:cNvSpPr/>
          <p:nvPr/>
        </p:nvSpPr>
        <p:spPr>
          <a:xfrm>
            <a:off x="44197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4"/>
          <p:cNvSpPr/>
          <p:nvPr/>
        </p:nvSpPr>
        <p:spPr>
          <a:xfrm>
            <a:off x="48769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5"/>
          <p:cNvSpPr/>
          <p:nvPr/>
        </p:nvSpPr>
        <p:spPr>
          <a:xfrm>
            <a:off x="37339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6"/>
          <p:cNvSpPr/>
          <p:nvPr/>
        </p:nvSpPr>
        <p:spPr>
          <a:xfrm>
            <a:off x="51055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97"/>
          <p:cNvSpPr/>
          <p:nvPr/>
        </p:nvSpPr>
        <p:spPr>
          <a:xfrm>
            <a:off x="46483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eft Brace 98"/>
          <p:cNvSpPr/>
          <p:nvPr/>
        </p:nvSpPr>
        <p:spPr>
          <a:xfrm rot="16200000">
            <a:off x="4305240" y="1436760"/>
            <a:ext cx="380880" cy="1828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828800"/>
              <a:gd name="textAreaBottom" fmla="*/ 18190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eft Brace 99"/>
          <p:cNvSpPr/>
          <p:nvPr/>
        </p:nvSpPr>
        <p:spPr>
          <a:xfrm rot="5400000">
            <a:off x="4100760" y="927720"/>
            <a:ext cx="331920" cy="762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8640 h 762120"/>
              <a:gd name="textAreaBottom" fmla="*/ 753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5400" y="10800"/>
                  <a:pt x="0" y="10800"/>
                </a:cubicBezTo>
                <a:cubicBezTo>
                  <a:pt x="54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2"/>
          <p:cNvSpPr/>
          <p:nvPr/>
        </p:nvSpPr>
        <p:spPr>
          <a:xfrm>
            <a:off x="4038480" y="24652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2"/>
          <p:cNvSpPr/>
          <p:nvPr/>
        </p:nvSpPr>
        <p:spPr>
          <a:xfrm>
            <a:off x="3809880" y="76212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2" descr=""/>
          <p:cNvPicPr/>
          <p:nvPr/>
        </p:nvPicPr>
        <p:blipFill>
          <a:blip r:embed="rId1"/>
          <a:stretch/>
        </p:blipFill>
        <p:spPr>
          <a:xfrm>
            <a:off x="152280" y="1695600"/>
            <a:ext cx="828720" cy="5461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"/>
          <p:cNvPicPr/>
          <p:nvPr/>
        </p:nvPicPr>
        <p:blipFill>
          <a:blip r:embed="rId2"/>
          <a:stretch/>
        </p:blipFill>
        <p:spPr>
          <a:xfrm>
            <a:off x="934920" y="1725480"/>
            <a:ext cx="817560" cy="5335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52"/>
          <p:cNvSpPr/>
          <p:nvPr/>
        </p:nvSpPr>
        <p:spPr>
          <a:xfrm>
            <a:off x="836640" y="1036800"/>
            <a:ext cx="29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MAL ABU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 and Orde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7"/>
          <p:cNvSpPr/>
          <p:nvPr/>
        </p:nvSpPr>
        <p:spPr>
          <a:xfrm>
            <a:off x="6929280" y="914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1"/>
          <p:cNvSpPr/>
          <p:nvPr/>
        </p:nvSpPr>
        <p:spPr>
          <a:xfrm>
            <a:off x="5872320" y="3276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chains/2 sta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74F5-905C-4025-AC40-F523F8C0154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8" descr=""/>
          <p:cNvPicPr/>
          <p:nvPr/>
        </p:nvPicPr>
        <p:blipFill>
          <a:blip r:embed="rId3"/>
          <a:stretch/>
        </p:blipFill>
        <p:spPr>
          <a:xfrm>
            <a:off x="2865600" y="1695600"/>
            <a:ext cx="885600" cy="546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1752480" y="165744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9" descr=""/>
          <p:cNvPicPr/>
          <p:nvPr/>
        </p:nvPicPr>
        <p:blipFill>
          <a:blip r:embed="rId5"/>
          <a:stretch/>
        </p:blipFill>
        <p:spPr>
          <a:xfrm>
            <a:off x="3780000" y="1695600"/>
            <a:ext cx="868320" cy="560160"/>
          </a:xfrm>
          <a:prstGeom prst="rect">
            <a:avLst/>
          </a:prstGeom>
          <a:ln w="0">
            <a:noFill/>
          </a:ln>
        </p:spPr>
      </p:pic>
      <p:sp>
        <p:nvSpPr>
          <p:cNvPr id="848" name="Rounded Rectangle 120"/>
          <p:cNvSpPr/>
          <p:nvPr/>
        </p:nvSpPr>
        <p:spPr>
          <a:xfrm>
            <a:off x="76320" y="1542960"/>
            <a:ext cx="259056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21"/>
          <p:cNvSpPr/>
          <p:nvPr/>
        </p:nvSpPr>
        <p:spPr>
          <a:xfrm>
            <a:off x="2819520" y="1542960"/>
            <a:ext cx="187632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53"/>
          <p:cNvSpPr/>
          <p:nvPr/>
        </p:nvSpPr>
        <p:spPr>
          <a:xfrm>
            <a:off x="464832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I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28191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ing/Stack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dges are sorted according to upper bound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on the number of abutment after sel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struct solutions in depth-first search with tree pruning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6895"/>
                </a:solidFill>
                <a:latin typeface="Arial"/>
              </a:rPr>
              <a:t>Only need to examine first several solutions to find optimal in most cases </a:t>
            </a:r>
            <a:endParaRPr b="0" lang="en-US" sz="16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 order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Min cut placement of chains with exhaustive search for small # of chains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For large # of chains, partition with FM algorithm and run exhaustive search to order partitions and chains within partitio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hains are possibly flipped to minimize W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2" name="TextBox 3"/>
          <p:cNvSpPr/>
          <p:nvPr/>
        </p:nvSpPr>
        <p:spPr>
          <a:xfrm>
            <a:off x="2971800" y="2852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C. Hwang </a:t>
            </a:r>
            <a:r>
              <a:rPr b="0" i="1" lang="en-US" sz="2000" spc="-1" strike="noStrike">
                <a:solidFill>
                  <a:srgbClr val="526895"/>
                </a:solidFill>
                <a:latin typeface="Calibri"/>
              </a:rPr>
              <a:t>et al., TCAD </a:t>
            </a: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20"/>
          <p:cNvSpPr/>
          <p:nvPr/>
        </p:nvSpPr>
        <p:spPr>
          <a:xfrm>
            <a:off x="6480000" y="1317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6"/>
          <a:stretch/>
        </p:blipFill>
        <p:spPr>
          <a:xfrm>
            <a:off x="5991120" y="1611360"/>
            <a:ext cx="3000600" cy="1685880"/>
          </a:xfrm>
          <a:prstGeom prst="rect">
            <a:avLst/>
          </a:prstGeom>
          <a:ln w="0">
            <a:noFill/>
          </a:ln>
        </p:spPr>
      </p:pic>
      <p:sp>
        <p:nvSpPr>
          <p:cNvPr id="855" name="TextBox 120"/>
          <p:cNvSpPr/>
          <p:nvPr/>
        </p:nvSpPr>
        <p:spPr>
          <a:xfrm>
            <a:off x="609588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20"/>
          <p:cNvSpPr/>
          <p:nvPr/>
        </p:nvSpPr>
        <p:spPr>
          <a:xfrm>
            <a:off x="67849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20"/>
          <p:cNvSpPr/>
          <p:nvPr/>
        </p:nvSpPr>
        <p:spPr>
          <a:xfrm>
            <a:off x="7086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20"/>
          <p:cNvSpPr/>
          <p:nvPr/>
        </p:nvSpPr>
        <p:spPr>
          <a:xfrm>
            <a:off x="7851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0"/>
          <p:cNvSpPr/>
          <p:nvPr/>
        </p:nvSpPr>
        <p:spPr>
          <a:xfrm>
            <a:off x="81565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846144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iped Right Arrow 47"/>
          <p:cNvSpPr/>
          <p:nvPr/>
        </p:nvSpPr>
        <p:spPr>
          <a:xfrm>
            <a:off x="5029200" y="161928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228240" y="3581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wiring for S/D-to-S/D and gate connections that cannot be on poly using 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ingle-t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runk Steiner tree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horizontal trunk in center of cel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outing and Congestion Estimation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4" name="Slide Number Placeholder 28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C5F7-4DB2-4B02-AABA-A737BCCF7F7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0"/>
          <p:cNvSpPr/>
          <p:nvPr/>
        </p:nvSpPr>
        <p:spPr>
          <a:xfrm>
            <a:off x="5410080" y="1219320"/>
            <a:ext cx="1219320" cy="9903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1"/>
          <p:cNvSpPr/>
          <p:nvPr/>
        </p:nvSpPr>
        <p:spPr>
          <a:xfrm>
            <a:off x="5410080" y="2666880"/>
            <a:ext cx="121932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Rectangle 82"/>
          <p:cNvGrpSpPr/>
          <p:nvPr/>
        </p:nvGrpSpPr>
        <p:grpSpPr>
          <a:xfrm>
            <a:off x="5924520" y="974880"/>
            <a:ext cx="190440" cy="568080"/>
            <a:chOff x="5924520" y="974880"/>
            <a:chExt cx="190440" cy="568080"/>
          </a:xfrm>
        </p:grpSpPr>
        <p:pic>
          <p:nvPicPr>
            <p:cNvPr id="868" name="Rectangle 82" descr=""/>
            <p:cNvPicPr/>
            <p:nvPr/>
          </p:nvPicPr>
          <p:blipFill>
            <a:blip r:embed="rId1"/>
            <a:stretch/>
          </p:blipFill>
          <p:spPr>
            <a:xfrm>
              <a:off x="5924520" y="974880"/>
              <a:ext cx="1904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3600" y="990720"/>
              <a:ext cx="15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84"/>
          <p:cNvSpPr/>
          <p:nvPr/>
        </p:nvSpPr>
        <p:spPr>
          <a:xfrm>
            <a:off x="2895480" y="274320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85"/>
          <p:cNvSpPr/>
          <p:nvPr/>
        </p:nvSpPr>
        <p:spPr>
          <a:xfrm>
            <a:off x="2895480" y="144792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86"/>
          <p:cNvGrpSpPr/>
          <p:nvPr/>
        </p:nvGrpSpPr>
        <p:grpSpPr>
          <a:xfrm>
            <a:off x="5924520" y="3029040"/>
            <a:ext cx="190440" cy="495360"/>
            <a:chOff x="5924520" y="3029040"/>
            <a:chExt cx="190440" cy="495360"/>
          </a:xfrm>
        </p:grpSpPr>
        <p:pic>
          <p:nvPicPr>
            <p:cNvPr id="873" name="Rectangle 86" descr=""/>
            <p:cNvPicPr/>
            <p:nvPr/>
          </p:nvPicPr>
          <p:blipFill>
            <a:blip r:embed="rId2"/>
            <a:stretch/>
          </p:blipFill>
          <p:spPr>
            <a:xfrm>
              <a:off x="5924520" y="3029040"/>
              <a:ext cx="190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3600" y="304812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87"/>
          <p:cNvGrpSpPr/>
          <p:nvPr/>
        </p:nvGrpSpPr>
        <p:grpSpPr>
          <a:xfrm>
            <a:off x="4784760" y="2803680"/>
            <a:ext cx="189000" cy="720720"/>
            <a:chOff x="4784760" y="2803680"/>
            <a:chExt cx="189000" cy="720720"/>
          </a:xfrm>
        </p:grpSpPr>
        <p:pic>
          <p:nvPicPr>
            <p:cNvPr id="876" name="Rectangle 87" descr=""/>
            <p:cNvPicPr/>
            <p:nvPr/>
          </p:nvPicPr>
          <p:blipFill>
            <a:blip r:embed="rId3"/>
            <a:stretch/>
          </p:blipFill>
          <p:spPr>
            <a:xfrm>
              <a:off x="4784760" y="2803680"/>
              <a:ext cx="189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4800600" y="2819520"/>
              <a:ext cx="152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Rectangle 88"/>
          <p:cNvGrpSpPr/>
          <p:nvPr/>
        </p:nvGrpSpPr>
        <p:grpSpPr>
          <a:xfrm>
            <a:off x="3870360" y="2876400"/>
            <a:ext cx="189000" cy="648000"/>
            <a:chOff x="3870360" y="2876400"/>
            <a:chExt cx="189000" cy="648000"/>
          </a:xfrm>
        </p:grpSpPr>
        <p:pic>
          <p:nvPicPr>
            <p:cNvPr id="879" name="Rectangle 88" descr=""/>
            <p:cNvPicPr/>
            <p:nvPr/>
          </p:nvPicPr>
          <p:blipFill>
            <a:blip r:embed="rId4"/>
            <a:stretch/>
          </p:blipFill>
          <p:spPr>
            <a:xfrm>
              <a:off x="3870360" y="2876400"/>
              <a:ext cx="189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3886200" y="2895480"/>
              <a:ext cx="152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Rectangle 89"/>
          <p:cNvGrpSpPr/>
          <p:nvPr/>
        </p:nvGrpSpPr>
        <p:grpSpPr>
          <a:xfrm>
            <a:off x="4327560" y="2498760"/>
            <a:ext cx="189000" cy="646200"/>
            <a:chOff x="4327560" y="2498760"/>
            <a:chExt cx="189000" cy="646200"/>
          </a:xfrm>
        </p:grpSpPr>
        <p:pic>
          <p:nvPicPr>
            <p:cNvPr id="882" name="Rectangle 89" descr=""/>
            <p:cNvPicPr/>
            <p:nvPr/>
          </p:nvPicPr>
          <p:blipFill>
            <a:blip r:embed="rId5"/>
            <a:stretch/>
          </p:blipFill>
          <p:spPr>
            <a:xfrm>
              <a:off x="4327560" y="2498760"/>
              <a:ext cx="189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343400" y="2514600"/>
              <a:ext cx="152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Rectangle 90"/>
          <p:cNvGrpSpPr/>
          <p:nvPr/>
        </p:nvGrpSpPr>
        <p:grpSpPr>
          <a:xfrm>
            <a:off x="3413160" y="2346480"/>
            <a:ext cx="2549520" cy="188640"/>
            <a:chOff x="3413160" y="2346480"/>
            <a:chExt cx="2549520" cy="188640"/>
          </a:xfrm>
        </p:grpSpPr>
        <p:pic>
          <p:nvPicPr>
            <p:cNvPr id="885" name="Rectangle 90" descr=""/>
            <p:cNvPicPr/>
            <p:nvPr/>
          </p:nvPicPr>
          <p:blipFill>
            <a:blip r:embed="rId6"/>
            <a:stretch/>
          </p:blipFill>
          <p:spPr>
            <a:xfrm>
              <a:off x="3413160" y="2346480"/>
              <a:ext cx="2549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429000" y="23623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Rectangle 91"/>
          <p:cNvGrpSpPr/>
          <p:nvPr/>
        </p:nvGrpSpPr>
        <p:grpSpPr>
          <a:xfrm>
            <a:off x="5394240" y="1962000"/>
            <a:ext cx="1255680" cy="190800"/>
            <a:chOff x="5394240" y="1962000"/>
            <a:chExt cx="1255680" cy="190800"/>
          </a:xfrm>
        </p:grpSpPr>
        <p:pic>
          <p:nvPicPr>
            <p:cNvPr id="888" name="Rectangle 91" descr=""/>
            <p:cNvPicPr/>
            <p:nvPr/>
          </p:nvPicPr>
          <p:blipFill>
            <a:blip r:embed="rId7"/>
            <a:stretch/>
          </p:blipFill>
          <p:spPr>
            <a:xfrm>
              <a:off x="5394240" y="1962000"/>
              <a:ext cx="125568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5410080" y="198108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Rectangle 92"/>
          <p:cNvGrpSpPr/>
          <p:nvPr/>
        </p:nvGrpSpPr>
        <p:grpSpPr>
          <a:xfrm>
            <a:off x="5394240" y="2724120"/>
            <a:ext cx="1255680" cy="190440"/>
            <a:chOff x="5394240" y="2724120"/>
            <a:chExt cx="1255680" cy="190440"/>
          </a:xfrm>
        </p:grpSpPr>
        <p:pic>
          <p:nvPicPr>
            <p:cNvPr id="891" name="Rectangle 92" descr=""/>
            <p:cNvPicPr/>
            <p:nvPr/>
          </p:nvPicPr>
          <p:blipFill>
            <a:blip r:embed="rId8"/>
            <a:stretch/>
          </p:blipFill>
          <p:spPr>
            <a:xfrm>
              <a:off x="5394240" y="2724120"/>
              <a:ext cx="12556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410080" y="2743200"/>
              <a:ext cx="1219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Rectangle 93"/>
          <p:cNvGrpSpPr/>
          <p:nvPr/>
        </p:nvGrpSpPr>
        <p:grpSpPr>
          <a:xfrm>
            <a:off x="4784760" y="1504800"/>
            <a:ext cx="189000" cy="878040"/>
            <a:chOff x="4784760" y="1504800"/>
            <a:chExt cx="189000" cy="878040"/>
          </a:xfrm>
        </p:grpSpPr>
        <p:pic>
          <p:nvPicPr>
            <p:cNvPr id="894" name="Rectangle 93" descr=""/>
            <p:cNvPicPr/>
            <p:nvPr/>
          </p:nvPicPr>
          <p:blipFill>
            <a:blip r:embed="rId9"/>
            <a:stretch/>
          </p:blipFill>
          <p:spPr>
            <a:xfrm>
              <a:off x="47847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48006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Rectangle 94"/>
          <p:cNvGrpSpPr/>
          <p:nvPr/>
        </p:nvGrpSpPr>
        <p:grpSpPr>
          <a:xfrm>
            <a:off x="3413160" y="1504800"/>
            <a:ext cx="189000" cy="878040"/>
            <a:chOff x="3413160" y="1504800"/>
            <a:chExt cx="189000" cy="878040"/>
          </a:xfrm>
        </p:grpSpPr>
        <p:pic>
          <p:nvPicPr>
            <p:cNvPr id="897" name="Rectangle 94" descr=""/>
            <p:cNvPicPr/>
            <p:nvPr/>
          </p:nvPicPr>
          <p:blipFill>
            <a:blip r:embed="rId10"/>
            <a:stretch/>
          </p:blipFill>
          <p:spPr>
            <a:xfrm>
              <a:off x="34131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34290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Rectangle 95"/>
          <p:cNvGrpSpPr/>
          <p:nvPr/>
        </p:nvGrpSpPr>
        <p:grpSpPr>
          <a:xfrm>
            <a:off x="3870360" y="1047600"/>
            <a:ext cx="189000" cy="800280"/>
            <a:chOff x="3870360" y="1047600"/>
            <a:chExt cx="189000" cy="800280"/>
          </a:xfrm>
        </p:grpSpPr>
        <p:pic>
          <p:nvPicPr>
            <p:cNvPr id="900" name="Rectangle 95" descr=""/>
            <p:cNvPicPr/>
            <p:nvPr/>
          </p:nvPicPr>
          <p:blipFill>
            <a:blip r:embed="rId11"/>
            <a:stretch/>
          </p:blipFill>
          <p:spPr>
            <a:xfrm>
              <a:off x="3870360" y="1047600"/>
              <a:ext cx="1890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886200" y="1066680"/>
              <a:ext cx="152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97"/>
          <p:cNvSpPr/>
          <p:nvPr/>
        </p:nvSpPr>
        <p:spPr>
          <a:xfrm>
            <a:off x="5715000" y="2362320"/>
            <a:ext cx="5335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8"/>
          <p:cNvSpPr/>
          <p:nvPr/>
        </p:nvSpPr>
        <p:spPr>
          <a:xfrm>
            <a:off x="32004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99"/>
          <p:cNvSpPr/>
          <p:nvPr/>
        </p:nvSpPr>
        <p:spPr>
          <a:xfrm>
            <a:off x="36576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0"/>
          <p:cNvSpPr/>
          <p:nvPr/>
        </p:nvSpPr>
        <p:spPr>
          <a:xfrm>
            <a:off x="41148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1"/>
          <p:cNvSpPr/>
          <p:nvPr/>
        </p:nvSpPr>
        <p:spPr>
          <a:xfrm>
            <a:off x="45720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2"/>
          <p:cNvSpPr/>
          <p:nvPr/>
        </p:nvSpPr>
        <p:spPr>
          <a:xfrm>
            <a:off x="34290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3"/>
          <p:cNvSpPr/>
          <p:nvPr/>
        </p:nvSpPr>
        <p:spPr>
          <a:xfrm>
            <a:off x="3429000" y="2362320"/>
            <a:ext cx="152388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4"/>
          <p:cNvSpPr/>
          <p:nvPr/>
        </p:nvSpPr>
        <p:spPr>
          <a:xfrm>
            <a:off x="4343400" y="2514600"/>
            <a:ext cx="152280" cy="6094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5"/>
          <p:cNvSpPr/>
          <p:nvPr/>
        </p:nvSpPr>
        <p:spPr>
          <a:xfrm>
            <a:off x="61722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6"/>
          <p:cNvSpPr/>
          <p:nvPr/>
        </p:nvSpPr>
        <p:spPr>
          <a:xfrm>
            <a:off x="57150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7"/>
          <p:cNvSpPr/>
          <p:nvPr/>
        </p:nvSpPr>
        <p:spPr>
          <a:xfrm>
            <a:off x="4952880" y="2362320"/>
            <a:ext cx="9907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8"/>
          <p:cNvSpPr/>
          <p:nvPr/>
        </p:nvSpPr>
        <p:spPr>
          <a:xfrm>
            <a:off x="5943600" y="3124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0"/>
          <p:cNvSpPr/>
          <p:nvPr/>
        </p:nvSpPr>
        <p:spPr>
          <a:xfrm>
            <a:off x="5410080" y="1981080"/>
            <a:ext cx="1219320" cy="1526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1"/>
          <p:cNvSpPr/>
          <p:nvPr/>
        </p:nvSpPr>
        <p:spPr>
          <a:xfrm>
            <a:off x="5410080" y="2743200"/>
            <a:ext cx="12193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12"/>
          <p:cNvSpPr/>
          <p:nvPr/>
        </p:nvSpPr>
        <p:spPr>
          <a:xfrm>
            <a:off x="38862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3"/>
          <p:cNvSpPr/>
          <p:nvPr/>
        </p:nvSpPr>
        <p:spPr>
          <a:xfrm>
            <a:off x="34290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14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5"/>
          <p:cNvSpPr/>
          <p:nvPr/>
        </p:nvSpPr>
        <p:spPr>
          <a:xfrm>
            <a:off x="64008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16"/>
          <p:cNvSpPr/>
          <p:nvPr/>
        </p:nvSpPr>
        <p:spPr>
          <a:xfrm>
            <a:off x="54864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7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8"/>
          <p:cNvSpPr/>
          <p:nvPr/>
        </p:nvSpPr>
        <p:spPr>
          <a:xfrm>
            <a:off x="5943600" y="990720"/>
            <a:ext cx="152280" cy="53316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9"/>
          <p:cNvSpPr/>
          <p:nvPr/>
        </p:nvSpPr>
        <p:spPr>
          <a:xfrm>
            <a:off x="5943600" y="3048120"/>
            <a:ext cx="152280" cy="457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20"/>
          <p:cNvSpPr/>
          <p:nvPr/>
        </p:nvSpPr>
        <p:spPr>
          <a:xfrm>
            <a:off x="3886200" y="2895480"/>
            <a:ext cx="152280" cy="6098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1"/>
          <p:cNvSpPr/>
          <p:nvPr/>
        </p:nvSpPr>
        <p:spPr>
          <a:xfrm>
            <a:off x="4800600" y="2819520"/>
            <a:ext cx="152280" cy="6858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3"/>
          <p:cNvSpPr/>
          <p:nvPr/>
        </p:nvSpPr>
        <p:spPr>
          <a:xfrm>
            <a:off x="48006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4"/>
          <p:cNvSpPr/>
          <p:nvPr/>
        </p:nvSpPr>
        <p:spPr>
          <a:xfrm>
            <a:off x="5715000" y="23623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25"/>
          <p:cNvSpPr/>
          <p:nvPr/>
        </p:nvSpPr>
        <p:spPr>
          <a:xfrm>
            <a:off x="48006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26"/>
          <p:cNvSpPr/>
          <p:nvPr/>
        </p:nvSpPr>
        <p:spPr>
          <a:xfrm>
            <a:off x="43434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27"/>
          <p:cNvSpPr/>
          <p:nvPr/>
        </p:nvSpPr>
        <p:spPr>
          <a:xfrm>
            <a:off x="38862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9"/>
          <p:cNvSpPr/>
          <p:nvPr/>
        </p:nvSpPr>
        <p:spPr>
          <a:xfrm>
            <a:off x="48006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0"/>
          <p:cNvSpPr/>
          <p:nvPr/>
        </p:nvSpPr>
        <p:spPr>
          <a:xfrm>
            <a:off x="5943600" y="12952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1"/>
          <p:cNvSpPr/>
          <p:nvPr/>
        </p:nvSpPr>
        <p:spPr>
          <a:xfrm>
            <a:off x="3886200" y="1066680"/>
            <a:ext cx="152280" cy="76212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Rectangle 96"/>
          <p:cNvGrpSpPr/>
          <p:nvPr/>
        </p:nvGrpSpPr>
        <p:grpSpPr>
          <a:xfrm>
            <a:off x="2955960" y="1504800"/>
            <a:ext cx="189000" cy="1640160"/>
            <a:chOff x="2955960" y="1504800"/>
            <a:chExt cx="189000" cy="1640160"/>
          </a:xfrm>
        </p:grpSpPr>
        <p:pic>
          <p:nvPicPr>
            <p:cNvPr id="935" name="Rectangle 96" descr=""/>
            <p:cNvPicPr/>
            <p:nvPr/>
          </p:nvPicPr>
          <p:blipFill>
            <a:blip r:embed="rId12"/>
            <a:stretch/>
          </p:blipFill>
          <p:spPr>
            <a:xfrm>
              <a:off x="2955960" y="1504800"/>
              <a:ext cx="1890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971800" y="1523880"/>
              <a:ext cx="152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122"/>
          <p:cNvSpPr/>
          <p:nvPr/>
        </p:nvSpPr>
        <p:spPr>
          <a:xfrm>
            <a:off x="2971800" y="1523880"/>
            <a:ext cx="152280" cy="1600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9"/>
          <p:cNvSpPr/>
          <p:nvPr/>
        </p:nvSpPr>
        <p:spPr>
          <a:xfrm>
            <a:off x="29718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28"/>
          <p:cNvSpPr/>
          <p:nvPr/>
        </p:nvSpPr>
        <p:spPr>
          <a:xfrm>
            <a:off x="29718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1:50:38Z</dcterms:created>
  <dc:creator>Rani</dc:creator>
  <dc:description/>
  <dc:language>en-US</dc:language>
  <cp:lastModifiedBy>Rani</cp:lastModifiedBy>
  <dcterms:modified xsi:type="dcterms:W3CDTF">2009-11-04T18:57:57Z</dcterms:modified>
  <cp:revision>1413</cp:revision>
  <dc:subject/>
  <dc:title>Automated Evaluation of Design Rule Implications on Circuit Characteristics</dc:title>
</cp:coreProperties>
</file>