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4.wmf" ContentType="image/x-wmf"/>
  <Override PartName="/ppt/media/image35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6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2895120" y="526680"/>
            <a:ext cx="3505320" cy="262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7"/>
          </p:nvPr>
        </p:nvSpPr>
        <p:spPr>
          <a:xfrm>
            <a:off x="-360" y="6659640"/>
            <a:ext cx="40273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8"/>
          </p:nvPr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5693-C7A1-4EE7-A76B-518AD33285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lmost identical results for limited/2D-poly (U/W-shapes not beneficial)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er area overhead for fixed pitch if min gate pitch ≠ contacted pitc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FFB9-0DCB-409F-BA50-4DAE38B776D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small cell-height (7 tracks), diffusion power-straps lead to 5.8% area improvement because it reduces M1-congestion which affects area seriously in this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96A2-62AA-461A-9E41-513E0EB7DB6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usion power-straps lead to 5.2%/4.2% smaller cell-area (contrary to previous study with 45nm FreePDK) du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M1-conges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gate-spacing according to DR values of 65nm commercial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D07F-55E0-4AC8-93C0-08266477913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6035-9743-4C79-8E7F-FB8F91E0BDF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"/>
          <p:cNvSpPr/>
          <p:nvPr/>
        </p:nvSpPr>
        <p:spPr>
          <a:xfrm>
            <a:off x="1639800" y="531720"/>
            <a:ext cx="601668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5FBE-0EFF-471D-A310-07B49368D7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"/>
          <p:cNvSpPr/>
          <p:nvPr/>
        </p:nvSpPr>
        <p:spPr>
          <a:xfrm>
            <a:off x="1639800" y="531720"/>
            <a:ext cx="600228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405D-F848-4DA7-8D8E-E23147744E0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"/>
          <p:cNvSpPr/>
          <p:nvPr/>
        </p:nvSpPr>
        <p:spPr>
          <a:xfrm>
            <a:off x="1639800" y="531720"/>
            <a:ext cx="60120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0F2-F991-458E-93AC-2D45E111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3EA-D59A-4735-8F63-A8614D23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CCDDCF-1B61-4984-8E9E-ED3DBCF7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1A4343-32B5-49D4-80F9-9666B0E2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082D4A-03CF-4893-9D87-EC982221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D052B6-C877-4493-A25C-525BAAC0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66AA59-045B-4620-99C7-C803113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63B2DA-2C7B-4B8A-821D-AC3E1B53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AAB6B-EC17-4423-A90C-B80A5526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2CEC4F-BA53-4CD7-9B98-91066356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F0F3D-9D07-4A83-8707-6B630367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2374AE-A7D4-47B1-A646-DFA38FF2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9DA-DF1B-4091-810C-7CF6A985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38E97E-AAA9-46DD-B32B-E210BEF6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94B2ED-D737-4997-99D2-E39EE05B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95D108-7D11-476E-93A2-CCFC9277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295775-2925-4C2F-AB07-65A1346A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CF1F93-449A-46AE-9814-D4F31431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0B7F19-02AE-4787-A592-8A3C67A0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4E3CC5-061F-4102-B6BB-7FEB4EE7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964803-905C-4500-8CE6-D98A85FE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33A827-A56F-49A1-B165-A85B5C26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087C19-55C0-4002-961E-6624F938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BCC-C53F-4A2C-B073-7E7D6B32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25086F-2CDA-46DA-8B8F-DB8E8BA0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FD9C07-152D-4CBD-9BC9-B2951180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378497-16A1-416E-82CB-0B85644B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ABE9FA-45CD-4526-AC79-AD64B3FD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566E26-7271-414C-8094-27BE830F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1530A0-B5B4-4676-A717-C7D6C180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27D49D-42F7-4308-85E1-ECE0BF6B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312744-C5EC-4B90-996D-958AF9D2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1CD125-53E2-4D53-9B4B-5426168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4D1D01-EFB8-4431-B63C-AE0C4060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FA5C1-7828-4F83-B7A6-CFC77E2EEB5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644DDE-46D9-42C1-B495-1BD82C1B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D6D393-01CF-4003-B81A-9D149DAC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FB485B-B3EB-4C03-A320-087F824B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439773-CA1F-4F2D-845E-36BD05D2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1C8571-0C8A-4BDF-A407-D1B628BB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5D6CA4-BB98-4E86-93E8-04EB7FFF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9C3EE3-951A-4441-B296-897F7720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77AAE7-D667-434A-94EA-7A96F55F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B3B2D5-156B-4D6A-BAA6-3C0713B8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368C6E-8B8E-4AE6-B64C-03E9ADA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20E76-3D5F-4858-AEA4-BF933C08226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99258B-C577-4AA5-9CD2-990F26D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8BD6B7-573C-4238-9091-248DC14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461348-3A7B-4FA7-8755-64319D22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B9AC25-D482-4AE7-B206-E9E1BD19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9E3AD8-7D75-4BE8-A6D6-5128061D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DDD62-4B02-4770-B6F8-197850174E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18DEB-0F22-432F-99F9-0E51076D89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F0D4D-0B16-4D3C-A3BF-9CA36C5968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40DC9-5A53-4485-B576-875C389984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39EF7-29A5-4B8E-AD14-8627135CA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FB8-A8F9-47F3-958D-8C7616E5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0CBE0-7434-4FC3-9D25-64A98257BD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C840F-5581-4B25-B18F-B831E50F84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B08B1-98E3-41DF-8379-708F0F2CAF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4EE10-C761-45F1-9A01-3C47E1D120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26CF6-E9BB-4BE0-90A4-2F97905FE6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B598F-2724-49E9-A5D3-2882F193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19514-CE7D-4D0F-9E3F-54C3955F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2A3C9-516E-4CF2-A518-CB1623A9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D4ED6-559C-4081-98B3-3E302B84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AEA7D-D5BD-4F07-B6F7-A18FAD0A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30C-18D3-4B74-88D2-93CDDA7B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C3A12-6576-4230-AC06-46E3F11E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1A3D4-2374-4E14-9D5A-5D103DDC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2D8B0-7749-4236-A946-8D1F09B1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CFF10-A7E2-48B6-9913-3AB2CF14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D7C35-27C6-4A7A-9DEF-CF9EE34B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3BDAC-B761-495F-B279-F2AE5657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829EA-F0B8-4E8C-BEFC-ACB0048A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2AA0A-51DD-4EDD-AEFD-EFEE791C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DE9B5-D8B7-4EAD-B7BE-87500919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F63EA-7B83-485D-B002-4EBD3632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A8B-1618-4A7D-B0C0-3EBBB2D9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19064-A1D6-498A-9AFE-748D28B0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3BFC0C-195F-466C-827B-8F4F37F9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CAFC0-09DC-404B-A5C8-C78E0408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4A309-AE42-424F-A8BF-93BBCD40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4D7F4-657D-4008-98B2-0567DF69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A7ED9-D9EC-4F2A-A35A-07186BE3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08715-76D1-4AB7-81AF-531433C7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9AB6E-CB95-4CDF-B18E-65D43E19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03B22-3297-4A74-A417-6C755F0A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3C257-0521-4FC5-8DC9-9786A5FE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348-D4C8-438C-B589-4D1E1CAC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5CDEA-3367-4AC5-BB38-61BB9222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815AC-A1A8-4641-A78B-8052D6A7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3205B-BEBB-4B36-A44C-49570CE4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C7A8F-A0BB-47C5-B1E9-9F008779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C3E22-0C68-4288-9485-CA3939D9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C0843-4162-44CC-8303-99D88A3E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782FB-0C5B-4CB6-A0EA-66A84B00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5569E-3BA4-4FE6-962D-E49C2725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DF1F0-A5B7-47A9-88C8-81F10A64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4F9997-0193-4E59-BC4E-547D565F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B41-1459-40F6-B60E-2EECF4B6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31808-E63D-4CED-B5F0-E59DAACD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00A00-5479-408D-A4A8-9E2BF2BC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A67D2-85FD-481D-B4B5-32696468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2B5DE-66AC-4257-A1E7-AA06E24F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03C6A-D079-43D6-8D4C-35B42F2E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905AD-31DC-4CA3-AC6F-FFFD5934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55DB6-2E1C-486E-8BDD-81970450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1C09A-7284-4B5A-8863-0FB9ED8F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E07B6-BA3E-43B3-A3A8-36870BA1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D0442-1EE6-40FF-A2B2-6687DC6D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A46-03B0-4296-9B7A-8C3854E8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994EA-83DD-45A0-B942-D0A17BC5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54026-E088-43BF-88C7-CFF33442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AE6E7-2B71-4C71-B64F-BDED0874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0F105-273F-44A5-843E-082A0982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94D79-5AE5-4275-8DF3-1B23E260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3D31B-5E50-4CFF-AD15-60BE1846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35E24-69F1-4C4F-9AC2-8FCC21EE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EAF5C-5402-4611-8076-FAE0A58E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DED33-0764-4FB1-96BC-CBA1528B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82503-5425-4455-84A5-FEC6BCF6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2A5-8891-4EFC-804F-100C9245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3169D-D874-4ABB-9ED8-96B29F8B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0959B-9A45-4B87-969C-17ED2A0C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91414-52FB-4090-A066-B918D061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3AF0E-E3AA-4115-A6B8-78970B37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EFBFA-B4AC-4F3B-BCBB-548EEE4F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B8BECB-CDF4-42D6-8BBD-22F7516A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3B9944-DF83-4385-906D-3B6C3E35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993661-8779-432F-9DFA-5BA53A6E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9FAA48-710E-4D4D-8A2C-292452C4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035E1B-45EA-4CB3-9C88-77E943EB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A60-9F6D-4EFF-A38F-525E4EDC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D604C3-516C-48C5-AE3E-10EAD27C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EB0308-E6B2-4793-A62D-9FAA1236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EF961B-E513-4229-8374-E00742B3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53423-7FAB-4752-8B8F-2953E20F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6703E-7C0F-4F79-A5C7-784D30AB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97ED0-AD08-4E0B-BE1E-590A72A0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3D88BE-0787-4D92-9B85-5D03F971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DC0BE3-CC09-41FD-A6AB-A8E6C9BD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9EDC83-2181-4BE6-A23C-AE5BCC1D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EA5001-203F-4C6E-ACD2-B3733D9B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5DA1-5500-4AD8-BED4-6A993ACA5F5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05EF-85B4-45F7-BA10-6352E456DC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34BC-4EAC-436E-A0F6-7004BC717D7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EA48-9A4D-4EAA-83B3-DF5717491ACB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0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FF08-D6D7-4B35-8D47-142976A928F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1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2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CB40-253B-4D07-928C-2D0511001E62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0476-2445-4ED8-A170-844EA6FDB5E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3861-B619-4CE3-A13A-C1289627012D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762120" y="3276720"/>
            <a:ext cx="7543800" cy="75960"/>
          </a:xfrm>
          <a:prstGeom prst="roundRect">
            <a:avLst>
              <a:gd name="adj" fmla="val 16667"/>
            </a:avLst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Delay 7"/>
          <p:cNvSpPr/>
          <p:nvPr/>
        </p:nvSpPr>
        <p:spPr>
          <a:xfrm>
            <a:off x="8265960" y="327672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lowchart: Delay 8"/>
          <p:cNvSpPr/>
          <p:nvPr/>
        </p:nvSpPr>
        <p:spPr>
          <a:xfrm rot="10800000">
            <a:off x="685440" y="327636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56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3352680" y="5724360"/>
            <a:ext cx="2514600" cy="520560"/>
          </a:xfrm>
          <a:prstGeom prst="rect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anoCA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9FC6-AE09-44F4-AB05-99F0C82170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0" y="6537240"/>
            <a:ext cx="4267080" cy="32076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ie 7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7010280" y="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1ED6-8AC1-41C4-9245-ED26B9B500B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-360" y="6552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3D68-DA1D-49CE-888D-B06C1C0676E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A394-9B93-4448-A262-DC79D12CC29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9BF8-99D9-4284-8D5C-89C6B7667761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3D3F-E50E-412F-B531-5073D562FA5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ED14-4752-4C49-A9DA-3D9E2083AD8C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A31D-FD41-4674-A55A-64C8B19B9F3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9243-32D0-4884-B9C9-AC2442D3E767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70C0-8AA3-4232-9CA9-74049818F03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DC42-6FCC-40F1-A330-3DBAFCD0A854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12" name="Pie 8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TextBox 9"/>
          <p:cNvGrpSpPr/>
          <p:nvPr/>
        </p:nvGrpSpPr>
        <p:grpSpPr>
          <a:xfrm>
            <a:off x="-6480" y="6534000"/>
            <a:ext cx="4280040" cy="379440"/>
            <a:chOff x="-6480" y="6534000"/>
            <a:chExt cx="4280040" cy="379440"/>
          </a:xfrm>
        </p:grpSpPr>
        <p:pic>
          <p:nvPicPr>
            <p:cNvPr id="314" name="TextBox 9" descr=""/>
            <p:cNvPicPr/>
            <p:nvPr/>
          </p:nvPicPr>
          <p:blipFill>
            <a:blip r:embed="rId3"/>
            <a:stretch/>
          </p:blipFill>
          <p:spPr>
            <a:xfrm>
              <a:off x="-6480" y="6534000"/>
              <a:ext cx="428004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0" y="653724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anoCAD 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4E43-7FAE-4081-B616-D855C27CF42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1676160" y="667512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4379400" y="6675120"/>
            <a:ext cx="38124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719F-C5E7-4275-85CD-879194E14272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4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0BC3-9782-4AC8-84B1-905F25754E2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5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6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D3BE-0F39-4FA6-BEE5-51720CF5BADC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ni@ee.ucla.edu" TargetMode="External"/><Relationship Id="rId2" Type="http://schemas.openxmlformats.org/officeDocument/2006/relationships/hyperlink" Target="mailto:puneet@ee.ucla.edu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A Framework for Systematic Evaluation and Exploration of Design Rul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Arial"/>
              </a:rPr>
              <a:t>Rani S. Ghaida* and Prof. Puneet Gupta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EE Dept., University of California, Los Angele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ani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,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uneet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Work partly supported by IMPACT, SRC, and NSF.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106668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00A9-109B-4822-9590-835CF6EC7B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             → increase cell-area to accommodate M1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captures routing efficiency, I/O pin accessing, and congestion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and </a:t>
            </a:r>
            <a:r>
              <a:rPr b="0" i="1" lang="el-GR" sz="2200" spc="-1" strike="noStrike">
                <a:solidFill>
                  <a:srgbClr val="526895"/>
                </a:solidFill>
                <a:latin typeface="Arial"/>
              </a:rPr>
              <a:t>β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determined empirically from actual cells from previous generation or trial rout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l-GR" sz="2200" spc="-1" strike="noStrike">
                <a:solidFill>
                  <a:srgbClr val="526895"/>
                </a:solidFill>
                <a:latin typeface="Times New Roman"/>
              </a:rPr>
              <a:t>γ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for I/O pin-access requirement and is specified by us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utilization w/o considering blockage from orthogonal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0,             → 1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larg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,              → 0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small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 Area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graphicFrame>
        <p:nvGraphicFramePr>
          <p:cNvPr id="942" name="Object 23"/>
          <p:cNvGraphicFramePr/>
          <p:nvPr/>
        </p:nvGraphicFramePr>
        <p:xfrm>
          <a:off x="3276720" y="2133720"/>
          <a:ext cx="29937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993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4"/>
          <p:cNvGraphicFramePr/>
          <p:nvPr/>
        </p:nvGraphicFramePr>
        <p:xfrm>
          <a:off x="1119240" y="1279440"/>
          <a:ext cx="938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1279440"/>
                    <a:ext cx="938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4"/>
          <p:cNvGraphicFramePr/>
          <p:nvPr/>
        </p:nvGraphicFramePr>
        <p:xfrm>
          <a:off x="2487600" y="4800600"/>
          <a:ext cx="101772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7600" y="480060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5"/>
          <p:cNvGraphicFramePr/>
          <p:nvPr/>
        </p:nvGraphicFramePr>
        <p:xfrm>
          <a:off x="2716200" y="5610240"/>
          <a:ext cx="10177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6200" y="561024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Slide Number Placeholder 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DE3A-1CD7-4095-95AB-A3ABE654482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Validation of Area Estimation and Runtime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Layout of Nangate cell-library (104 cells) were estimated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rea estimated with 2.4% error on average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of evaluation procedure is 20 minutes real time on a 2GHz clock speed and 2MB cache processor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Easily parallelizable with no overhead since cell topology generation is independent 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3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516A-AF00-4E00-B618-AD6668F5554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9" descr="EstimatedArea.bmp"/>
          <p:cNvPicPr/>
          <p:nvPr/>
        </p:nvPicPr>
        <p:blipFill>
          <a:blip r:embed="rId1"/>
          <a:stretch/>
        </p:blipFill>
        <p:spPr>
          <a:xfrm>
            <a:off x="2895480" y="914400"/>
            <a:ext cx="3544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502920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243828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Manufactur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ability of survival (POS) from: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verlay of Poly/M1/Active to contacts and poly-to-active (normal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tact-hole failur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article defects: place wires on equally spaced tracks, use a compact model for CAA for M1/poly/contact shorts/opens and gate-to-contact shorts. Example for M1/poly wire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2590920" y="1600200"/>
            <a:ext cx="15228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2590920" y="2438280"/>
            <a:ext cx="152280" cy="9144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3048120" y="1600200"/>
            <a:ext cx="152280" cy="17524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3505320" y="16002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3505320" y="2819520"/>
            <a:ext cx="152280" cy="5331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962520" y="1600200"/>
            <a:ext cx="15228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5105520" y="1600200"/>
            <a:ext cx="1676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5105520" y="2362320"/>
            <a:ext cx="9903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6248520" y="2362320"/>
            <a:ext cx="533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4"/>
          <p:cNvSpPr/>
          <p:nvPr/>
        </p:nvSpPr>
        <p:spPr>
          <a:xfrm>
            <a:off x="5105520" y="3200400"/>
            <a:ext cx="83808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7"/>
          <p:cNvSpPr/>
          <p:nvPr/>
        </p:nvSpPr>
        <p:spPr>
          <a:xfrm>
            <a:off x="2590920" y="1077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8"/>
          <p:cNvSpPr/>
          <p:nvPr/>
        </p:nvSpPr>
        <p:spPr>
          <a:xfrm>
            <a:off x="50292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1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E1D1-7425-4F3C-9894-A48D9E33C15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8" descr=""/>
          <p:cNvPicPr/>
          <p:nvPr/>
        </p:nvPicPr>
        <p:blipFill>
          <a:blip r:embed="rId1"/>
          <a:stretch/>
        </p:blipFill>
        <p:spPr>
          <a:xfrm>
            <a:off x="4952880" y="2336760"/>
            <a:ext cx="4114800" cy="40640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Vari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28600" y="838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We consider the sources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diffusion and poly imperfections under average overlay error and line-end pullback (corner-rounding, line-end taper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D variability (using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Variability index is the total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hange in drive current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6895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re </a:t>
            </a: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52689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s the source of variability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5" name="Slide Number Placeholder 1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FD20-5DE7-44D8-93F7-8B8A129EAD3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2" descr=""/>
          <p:cNvPicPr/>
          <p:nvPr/>
        </p:nvPicPr>
        <p:blipFill>
          <a:blip r:embed="rId2"/>
          <a:stretch/>
        </p:blipFill>
        <p:spPr>
          <a:xfrm>
            <a:off x="914400" y="3817800"/>
            <a:ext cx="32860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erimental Setup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45nm FreePDK and 65nm process from a commercial vendor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enchmark designs varying from 4K to 43K cells synthesized using Nangate 45nm Open Cell Lib (scaled for 65nm testing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OS values normalized to a 10x10mm chip-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aseline experiment with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1D-poly (non-fixed 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power-strap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9-track cell-height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9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CD6E-789C-4688-8C63-32B87DE50FF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ly-Restriction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3504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2D vs.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lmost identical cell-area due to pairing                                           and small overhead for gate-alignment                                     according to FreePDK D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32% less variability with 1D-poly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ixed vs. non-fixed pitch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23% less variability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5% area overhead because min = contacted gate pitch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2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5538-6273-42D6-BB64-8DF1C28964E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605560" cy="25146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" descr=""/>
          <p:cNvPicPr/>
          <p:nvPr/>
        </p:nvPicPr>
        <p:blipFill>
          <a:blip r:embed="rId2"/>
          <a:stretch/>
        </p:blipFill>
        <p:spPr>
          <a:xfrm>
            <a:off x="5611680" y="1149480"/>
            <a:ext cx="3532320" cy="1593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3"/>
          <a:stretch/>
        </p:blipFill>
        <p:spPr>
          <a:xfrm>
            <a:off x="5611680" y="3054240"/>
            <a:ext cx="353232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wer-Strap Sty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38098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7% area overhead with diff straps (not true for small cell-height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pecific to FreePDK, opposite results for 65nm commercial proces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84% larger variability with diff-power strap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diffusion-rounding is dominant in tested cell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anufacturability benefits of diffusion power strap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Gate-to-contact shorts are reduced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tact redundancy for power connections on power rail (no cost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120B-76CC-4C1C-BE0E-2F83B3CF904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D:\PhD-UCLA\Research\DRvsLayoutArea\Documents\ICCAD\powerstraps.bmp"/>
          <p:cNvPicPr/>
          <p:nvPr/>
        </p:nvPicPr>
        <p:blipFill>
          <a:blip r:embed="rId1"/>
          <a:stretch/>
        </p:blipFill>
        <p:spPr>
          <a:xfrm>
            <a:off x="233280" y="1133640"/>
            <a:ext cx="867744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Cell-Heigh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720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Minor effect of cell-height decision on vari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poly rounding and line-end tapering affected by cell-height decision are second-order sources of variability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2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 general, smaller cell-height </a:t>
            </a:r>
            <a:r>
              <a:rPr b="0" lang="en-US" sz="2400" spc="-1" strike="noStrike">
                <a:solidFill>
                  <a:srgbClr val="52689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 smaller area,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Not true for (large) cells in high-performance desig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42AC-2D7D-4AE6-9C17-1DBD3674019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2" descr="D:\PhD-UCLA\Research\DRvsLayoutArea\Documents\ICCAD\cellheight45.bmp"/>
          <p:cNvPicPr/>
          <p:nvPr/>
        </p:nvPicPr>
        <p:blipFill>
          <a:blip r:embed="rId1"/>
          <a:stretch/>
        </p:blipFill>
        <p:spPr>
          <a:xfrm>
            <a:off x="219240" y="1219320"/>
            <a:ext cx="8705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Comparison of DRs from Different Process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of std and LP 65nm process from same vendor with diffusion/M1 power-strap style and 1D-poly pattern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P better in terms of variability and manufacturability, but std process is more area-efficient (7.9% less area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6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556A-D134-4809-AF48-0C0F31A6D7D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D:\PhD-UCLA\Research\DRvsLayoutArea\Documents\ICCAD\RDR65nm.bmp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loration of Gate-Spacing Rules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44197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sider gate-to-diffusion (GD) and gate-to-contact (GC) rules in 65nm process and use diff power-straps and 1D-poly sty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olution corresponding to process GD/GC actual values falls very near the Pareto optimal frontier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xample shows the fidelity of our evaluation metrics and approach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918D-C1C3-4093-9854-1DA1340ECEB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D:\PhD-UCLA\Research\DRvsLayoutArea\Documents\ICCAD\stopt.bmp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dustry is faced with many technology options for scaling to every nex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DRs being the biggest design-relevant quality metric for a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valuating DRs is absolutely necessary to decide on 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utomated and systematic cell-level DR eval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focus o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arl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 evaluation of layout-methodologies and DR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before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xact process and design technologies are 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avoid explicit simulation or excessive reliance on accurate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6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338C-78CD-44CC-8C7D-A3C31F8FAA0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lexible framework for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arly co-evaluation of technologies, DRs, and cell library architecture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before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exact process and design technologies are know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from different process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n be used in DR optimization loops to narrow down on reasonable DR choic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++ source code available for download at </a:t>
            </a:r>
            <a:r>
              <a:rPr b="1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http://nanocad.ee.ucla.edu/Main/Projects</a:t>
            </a:r>
            <a:r>
              <a:rPr b="0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4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5282-BAC9-46EE-A54B-F7F246AA084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22824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ddress DR effects on other layout characteristics including performance, power, and some notion of design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troduce a 2D printability model (not based on field simulation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trapolate DR evaluation to the chip level and include intermediate and global metal/via layer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tudy interactions and tradeoffs of variability and 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C1BD-1625-4167-9A10-280EF382485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1519200" y="1295280"/>
            <a:ext cx="6164280" cy="1111320"/>
            <a:chOff x="1519200" y="1295280"/>
            <a:chExt cx="6164280" cy="1111320"/>
          </a:xfrm>
        </p:grpSpPr>
        <p:grpSp>
          <p:nvGrpSpPr>
            <p:cNvPr id="1009" name="Rounded Rectangle 8"/>
            <p:cNvGrpSpPr/>
            <p:nvPr/>
          </p:nvGrpSpPr>
          <p:grpSpPr>
            <a:xfrm>
              <a:off x="1519200" y="1295280"/>
              <a:ext cx="2024640" cy="1111320"/>
              <a:chOff x="1519200" y="1295280"/>
              <a:chExt cx="2024640" cy="1111320"/>
            </a:xfrm>
          </p:grpSpPr>
          <p:pic>
            <p:nvPicPr>
              <p:cNvPr id="1010" name="Rounded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295280"/>
                <a:ext cx="202464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"/>
              <p:cNvSpPr/>
              <p:nvPr/>
            </p:nvSpPr>
            <p:spPr>
              <a:xfrm>
                <a:off x="160452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ell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Rounded Rectangle 9"/>
            <p:cNvGrpSpPr/>
            <p:nvPr/>
          </p:nvGrpSpPr>
          <p:grpSpPr>
            <a:xfrm>
              <a:off x="5664960" y="1295280"/>
              <a:ext cx="2018520" cy="1111320"/>
              <a:chOff x="5664960" y="1295280"/>
              <a:chExt cx="2018520" cy="1111320"/>
            </a:xfrm>
          </p:grpSpPr>
          <p:pic>
            <p:nvPicPr>
              <p:cNvPr id="1013" name="Rounded 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4960" y="1295280"/>
                <a:ext cx="201852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"/>
              <p:cNvSpPr/>
              <p:nvPr/>
            </p:nvSpPr>
            <p:spPr>
              <a:xfrm>
                <a:off x="574848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hip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Striped Right Arrow 13"/>
            <p:cNvGrpSpPr/>
            <p:nvPr/>
          </p:nvGrpSpPr>
          <p:grpSpPr>
            <a:xfrm>
              <a:off x="3737160" y="1607760"/>
              <a:ext cx="676800" cy="526680"/>
              <a:chOff x="3737160" y="1607760"/>
              <a:chExt cx="676800" cy="526680"/>
            </a:xfrm>
          </p:grpSpPr>
          <p:pic>
            <p:nvPicPr>
              <p:cNvPr id="1016" name="Striped Right Arrow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73716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"/>
              <p:cNvSpPr/>
              <p:nvPr/>
            </p:nvSpPr>
            <p:spPr>
              <a:xfrm>
                <a:off x="386712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Striped Right Arrow 14"/>
            <p:cNvGrpSpPr/>
            <p:nvPr/>
          </p:nvGrpSpPr>
          <p:grpSpPr>
            <a:xfrm>
              <a:off x="4722120" y="1607760"/>
              <a:ext cx="676800" cy="526680"/>
              <a:chOff x="4722120" y="1607760"/>
              <a:chExt cx="676800" cy="526680"/>
            </a:xfrm>
          </p:grpSpPr>
          <p:pic>
            <p:nvPicPr>
              <p:cNvPr id="1019" name="Striped Right Arrow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212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"/>
              <p:cNvSpPr/>
              <p:nvPr/>
            </p:nvSpPr>
            <p:spPr>
              <a:xfrm>
                <a:off x="485064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689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ADDB-573F-4143-AA88-92CF4C71CC9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8537-BC79-47BC-92DD-DA08D7757B6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untime Improvement in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for cells with trans folded into large # of fold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pecial case for inverters/buffe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etect them based on connectivity info in netlist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Force chaining of fingers of folded tran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ive preference to sharing output signal so that power signal is at the edge allowing its sharing with other transisto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o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If trans is folded into large # of fingers (user-specified)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roup fingers into multiple groups (user-specified)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Treat each group as a single pair during chainin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Unfold finger groups after chaining is complete 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egligible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0D07-AD65-42CB-8EDA-ACD1268BD24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Runtime Improvement in Chain-Ordering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Runtime of chain-ordering with exhaustive search in cells with large # of chai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Let user specify limit on # of chains for exhaustive search (Lim)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For cells with # of chains &gt; Lim: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artition chains into groups with # of chains ≤ Lim using FM algorithm to minimize connection cuts between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chains within each partition separately while taking the order of partition into account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9586-D412-4A93-A285-07F42ED4A90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5" descr="D:\PhD-UCLA\Research\DRvsLayoutArea\ChipLevel\Documents\blockageex.bmp"/>
          <p:cNvPicPr/>
          <p:nvPr/>
        </p:nvPicPr>
        <p:blipFill>
          <a:blip r:embed="rId1"/>
          <a:stretch/>
        </p:blipFill>
        <p:spPr>
          <a:xfrm>
            <a:off x="5029200" y="2666880"/>
            <a:ext cx="4038480" cy="36068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304560" y="9907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xample of L-bend with tip facing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uter corner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1) and (2) are actually blocke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3) effectively increase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wirelength in orthogonal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irection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-Congestion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5" name="Slide Number Placeholder 1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3BAA-B078-430D-9195-6E03A757C2B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39"/>
          <p:cNvSpPr/>
          <p:nvPr/>
        </p:nvSpPr>
        <p:spPr>
          <a:xfrm>
            <a:off x="6095880" y="5261040"/>
            <a:ext cx="457200" cy="7617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8"/>
          <p:cNvSpPr/>
          <p:nvPr/>
        </p:nvSpPr>
        <p:spPr>
          <a:xfrm>
            <a:off x="6095880" y="3279600"/>
            <a:ext cx="457200" cy="7621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utcomes Depend on Set of DR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1447920" y="388944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447920" y="49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"/>
          <p:cNvSpPr/>
          <p:nvPr/>
        </p:nvSpPr>
        <p:spPr>
          <a:xfrm>
            <a:off x="1447920" y="40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52480" y="3736800"/>
            <a:ext cx="15264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09680" y="3903840"/>
            <a:ext cx="152640" cy="16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5238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4382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19810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15238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24382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19810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5"/>
          <p:cNvSpPr/>
          <p:nvPr/>
        </p:nvSpPr>
        <p:spPr>
          <a:xfrm>
            <a:off x="1981080" y="3584520"/>
            <a:ext cx="15264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6"/>
          <p:cNvSpPr/>
          <p:nvPr/>
        </p:nvSpPr>
        <p:spPr>
          <a:xfrm>
            <a:off x="15238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7"/>
          <p:cNvSpPr/>
          <p:nvPr/>
        </p:nvSpPr>
        <p:spPr>
          <a:xfrm>
            <a:off x="24382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8"/>
          <p:cNvSpPr/>
          <p:nvPr/>
        </p:nvSpPr>
        <p:spPr>
          <a:xfrm>
            <a:off x="1981080" y="5032440"/>
            <a:ext cx="15264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9"/>
          <p:cNvSpPr/>
          <p:nvPr/>
        </p:nvSpPr>
        <p:spPr>
          <a:xfrm>
            <a:off x="1371600" y="57182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1371600" y="32036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5486400" y="3889440"/>
            <a:ext cx="8380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2"/>
          <p:cNvSpPr/>
          <p:nvPr/>
        </p:nvSpPr>
        <p:spPr>
          <a:xfrm>
            <a:off x="5486400" y="4956120"/>
            <a:ext cx="1676520" cy="442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3"/>
          <p:cNvSpPr/>
          <p:nvPr/>
        </p:nvSpPr>
        <p:spPr>
          <a:xfrm>
            <a:off x="5715000" y="4041720"/>
            <a:ext cx="14479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4"/>
          <p:cNvSpPr/>
          <p:nvPr/>
        </p:nvSpPr>
        <p:spPr>
          <a:xfrm>
            <a:off x="5791320" y="3736800"/>
            <a:ext cx="15228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5"/>
          <p:cNvSpPr/>
          <p:nvPr/>
        </p:nvSpPr>
        <p:spPr>
          <a:xfrm>
            <a:off x="6705720" y="388944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6"/>
          <p:cNvSpPr/>
          <p:nvPr/>
        </p:nvSpPr>
        <p:spPr>
          <a:xfrm>
            <a:off x="55627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7"/>
          <p:cNvSpPr/>
          <p:nvPr/>
        </p:nvSpPr>
        <p:spPr>
          <a:xfrm>
            <a:off x="69343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9"/>
          <p:cNvSpPr/>
          <p:nvPr/>
        </p:nvSpPr>
        <p:spPr>
          <a:xfrm>
            <a:off x="55627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30"/>
          <p:cNvSpPr/>
          <p:nvPr/>
        </p:nvSpPr>
        <p:spPr>
          <a:xfrm>
            <a:off x="69343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3"/>
          <p:cNvSpPr/>
          <p:nvPr/>
        </p:nvSpPr>
        <p:spPr>
          <a:xfrm>
            <a:off x="55627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69343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6"/>
          <p:cNvSpPr/>
          <p:nvPr/>
        </p:nvSpPr>
        <p:spPr>
          <a:xfrm>
            <a:off x="5334120" y="57182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7"/>
          <p:cNvSpPr/>
          <p:nvPr/>
        </p:nvSpPr>
        <p:spPr>
          <a:xfrm>
            <a:off x="5334120" y="32036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0"/>
          <p:cNvSpPr/>
          <p:nvPr/>
        </p:nvSpPr>
        <p:spPr>
          <a:xfrm>
            <a:off x="6248520" y="33559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6248520" y="57942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2"/>
          <p:cNvSpPr/>
          <p:nvPr/>
        </p:nvSpPr>
        <p:spPr>
          <a:xfrm>
            <a:off x="838080" y="2895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3"/>
          <p:cNvSpPr/>
          <p:nvPr/>
        </p:nvSpPr>
        <p:spPr>
          <a:xfrm>
            <a:off x="4800600" y="2895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44"/>
          <p:cNvSpPr/>
          <p:nvPr/>
        </p:nvSpPr>
        <p:spPr>
          <a:xfrm>
            <a:off x="5105520" y="609912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ave to increase cell-width to next allowable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48"/>
          <p:cNvSpPr/>
          <p:nvPr/>
        </p:nvSpPr>
        <p:spPr>
          <a:xfrm>
            <a:off x="6781680" y="3584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Straight Arrow Connector 45"/>
          <p:cNvCxnSpPr/>
          <p:nvPr/>
        </p:nvCxnSpPr>
        <p:spPr>
          <a:xfrm flipV="1">
            <a:off x="6095880" y="373608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6" name="Straight Arrow Connector 47"/>
          <p:cNvCxnSpPr/>
          <p:nvPr/>
        </p:nvCxnSpPr>
        <p:spPr>
          <a:xfrm flipH="1">
            <a:off x="6628680" y="373644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7" name="TextBox 48"/>
          <p:cNvSpPr/>
          <p:nvPr/>
        </p:nvSpPr>
        <p:spPr>
          <a:xfrm>
            <a:off x="6019920" y="3765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5943600" y="4270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48"/>
          <p:cNvSpPr/>
          <p:nvPr/>
        </p:nvSpPr>
        <p:spPr>
          <a:xfrm>
            <a:off x="2438280" y="541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56"/>
          <p:cNvCxnSpPr/>
          <p:nvPr/>
        </p:nvCxnSpPr>
        <p:spPr>
          <a:xfrm>
            <a:off x="1905120" y="4649760"/>
            <a:ext cx="30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1" name="Straight Connector 58"/>
          <p:cNvSpPr/>
          <p:nvPr/>
        </p:nvSpPr>
        <p:spPr>
          <a:xfrm flipH="1" flipV="1">
            <a:off x="2057400" y="4650840"/>
            <a:ext cx="457200" cy="83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63"/>
          <p:cNvCxnSpPr/>
          <p:nvPr/>
        </p:nvCxnSpPr>
        <p:spPr>
          <a:xfrm flipV="1">
            <a:off x="5943240" y="426852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3" name="Slide Number Placeholder 4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0CF0-03A4-4636-8D16-115FE393F6A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684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pecial characteristics of FreePDK DRs, e.g.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Too small gate-to-contact spacing =&gt; huge effect on POS results for case of redundant contact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arge area overhead for fixed gate-pitch with diffusion power conn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5" name="TextBox 44"/>
          <p:cNvSpPr/>
          <p:nvPr/>
        </p:nvSpPr>
        <p:spPr>
          <a:xfrm>
            <a:off x="838080" y="61531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acted pitch = min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UCLA_DRE Supported Ru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Layout style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 patterning (2D/limited/1D/fixed-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wer-straps (Metal/Active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D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: LEE, LEG, gate-to-CA, gate-to-active, gate-pitch, etc…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Active: spacing, min width, extension beyond gat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: width, spacing, poly/active enclosure, CA to activ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: width, 2D-spacing rules, overha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2/Via1 (ongoing): width, 2D-spaci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x in chip-level evaluation (ongo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Well (ongoing): active-to-well edge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D386-80EC-4FD9-ABDC-4B9D10F6F5B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"/>
          <p:cNvPicPr/>
          <p:nvPr/>
        </p:nvPicPr>
        <p:blipFill>
          <a:blip r:embed="rId1"/>
          <a:stretch/>
        </p:blipFill>
        <p:spPr>
          <a:xfrm>
            <a:off x="582480" y="1136520"/>
            <a:ext cx="7979040" cy="45849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verview of DR Evaluator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28600" y="6095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layout esti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← Fast topology generation + congesti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7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EDF8-699A-48B9-B474-668F10C700E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0"/>
          <p:cNvSpPr/>
          <p:nvPr/>
        </p:nvSpPr>
        <p:spPr>
          <a:xfrm rot="15394200">
            <a:off x="6051960" y="1368720"/>
            <a:ext cx="2440080" cy="2082960"/>
          </a:xfrm>
          <a:prstGeom prst="ellipse">
            <a:avLst/>
          </a:prstGeom>
          <a:noFill/>
          <a:ln w="38160">
            <a:solidFill>
              <a:srgbClr val="526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1"/>
          <p:cNvSpPr/>
          <p:nvPr/>
        </p:nvSpPr>
        <p:spPr>
          <a:xfrm rot="18005400">
            <a:off x="6029280" y="3580920"/>
            <a:ext cx="2220840" cy="1770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7543800" y="5208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7620120" y="9907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Thi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8"/>
          <p:cNvSpPr/>
          <p:nvPr/>
        </p:nvSpPr>
        <p:spPr>
          <a:xfrm>
            <a:off x="4648320" y="3073320"/>
            <a:ext cx="106668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Assumptions and Flow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28240" y="5257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MOS circuits with dual transistors, multiple outputs, any transistor size, 1D transistor placement, i.e. on same row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ntra-cell routing in poly and M1 layers only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(M2 ongoing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7086600" y="261612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648320" y="36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7086600" y="36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4648320" y="27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9528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7242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51814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54100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8672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3244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65530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56386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86600" y="27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391520" y="2463840"/>
            <a:ext cx="152280" cy="18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7848720" y="261612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71629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80773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76201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47242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60958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8"/>
          <p:cNvSpPr/>
          <p:nvPr/>
        </p:nvSpPr>
        <p:spPr>
          <a:xfrm>
            <a:off x="65530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56386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0"/>
          <p:cNvSpPr/>
          <p:nvPr/>
        </p:nvSpPr>
        <p:spPr>
          <a:xfrm>
            <a:off x="71629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80773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76201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3"/>
          <p:cNvSpPr/>
          <p:nvPr/>
        </p:nvSpPr>
        <p:spPr>
          <a:xfrm>
            <a:off x="82296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82296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3"/>
          <p:cNvSpPr/>
          <p:nvPr/>
        </p:nvSpPr>
        <p:spPr>
          <a:xfrm>
            <a:off x="3276720" y="28195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5"/>
          <p:cNvSpPr/>
          <p:nvPr/>
        </p:nvSpPr>
        <p:spPr>
          <a:xfrm>
            <a:off x="3276720" y="23623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33526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38098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40384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35812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8"/>
          <p:cNvSpPr/>
          <p:nvPr/>
        </p:nvSpPr>
        <p:spPr>
          <a:xfrm>
            <a:off x="33526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9"/>
          <p:cNvSpPr/>
          <p:nvPr/>
        </p:nvSpPr>
        <p:spPr>
          <a:xfrm>
            <a:off x="38098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0"/>
          <p:cNvSpPr/>
          <p:nvPr/>
        </p:nvSpPr>
        <p:spPr>
          <a:xfrm>
            <a:off x="3581280" y="2209680"/>
            <a:ext cx="15264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eft Brace 51"/>
          <p:cNvSpPr/>
          <p:nvPr/>
        </p:nvSpPr>
        <p:spPr>
          <a:xfrm rot="16200000">
            <a:off x="7505640" y="387324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219320"/>
              <a:gd name="textAreaBottom" fmla="*/ 12096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eft Brace 52"/>
          <p:cNvSpPr/>
          <p:nvPr/>
        </p:nvSpPr>
        <p:spPr>
          <a:xfrm rot="16200000">
            <a:off x="5067360" y="410220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1760"/>
              <a:gd name="textAreaBottom" fmla="*/ 7520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2"/>
          <p:cNvSpPr/>
          <p:nvPr/>
        </p:nvSpPr>
        <p:spPr>
          <a:xfrm>
            <a:off x="7112160" y="4673520"/>
            <a:ext cx="132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82"/>
          <p:cNvSpPr/>
          <p:nvPr/>
        </p:nvSpPr>
        <p:spPr>
          <a:xfrm>
            <a:off x="4495680" y="46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5"/>
          <p:cNvSpPr/>
          <p:nvPr/>
        </p:nvSpPr>
        <p:spPr>
          <a:xfrm>
            <a:off x="3352680" y="4343400"/>
            <a:ext cx="6098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iped Right Arrow 56"/>
          <p:cNvSpPr/>
          <p:nvPr/>
        </p:nvSpPr>
        <p:spPr>
          <a:xfrm rot="5400000">
            <a:off x="3352680" y="3581280"/>
            <a:ext cx="609840" cy="609840"/>
          </a:xfrm>
          <a:custGeom>
            <a:avLst/>
            <a:gdLst>
              <a:gd name="textAreaLeft" fmla="*/ 95040 w 609840"/>
              <a:gd name="textAreaRight" fmla="*/ 457560 w 6098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609600" h="609600">
                <a:moveTo>
                  <a:pt x="0" y="152400"/>
                </a:moveTo>
                <a:lnTo>
                  <a:pt x="19050" y="152400"/>
                </a:lnTo>
                <a:lnTo>
                  <a:pt x="19050" y="457200"/>
                </a:lnTo>
                <a:lnTo>
                  <a:pt x="0" y="457200"/>
                </a:lnTo>
                <a:close/>
                <a:moveTo>
                  <a:pt x="38100" y="152400"/>
                </a:moveTo>
                <a:lnTo>
                  <a:pt x="76200" y="152400"/>
                </a:lnTo>
                <a:lnTo>
                  <a:pt x="76200" y="457200"/>
                </a:lnTo>
                <a:lnTo>
                  <a:pt x="38100" y="457200"/>
                </a:lnTo>
                <a:close/>
                <a:moveTo>
                  <a:pt x="95250" y="152400"/>
                </a:moveTo>
                <a:lnTo>
                  <a:pt x="304800" y="152400"/>
                </a:lnTo>
                <a:lnTo>
                  <a:pt x="304800" y="0"/>
                </a:lnTo>
                <a:lnTo>
                  <a:pt x="609600" y="304800"/>
                </a:lnTo>
                <a:lnTo>
                  <a:pt x="304800" y="609600"/>
                </a:lnTo>
                <a:lnTo>
                  <a:pt x="304800" y="457200"/>
                </a:lnTo>
                <a:lnTo>
                  <a:pt x="95250" y="457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2"/>
          <p:cNvSpPr/>
          <p:nvPr/>
        </p:nvSpPr>
        <p:spPr>
          <a:xfrm>
            <a:off x="2209680" y="25146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2"/>
          <p:cNvSpPr/>
          <p:nvPr/>
        </p:nvSpPr>
        <p:spPr>
          <a:xfrm>
            <a:off x="2209680" y="40640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9"/>
          <p:cNvSpPr/>
          <p:nvPr/>
        </p:nvSpPr>
        <p:spPr>
          <a:xfrm>
            <a:off x="1295280" y="3835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0"/>
          <p:cNvSpPr/>
          <p:nvPr/>
        </p:nvSpPr>
        <p:spPr>
          <a:xfrm>
            <a:off x="1295280" y="2692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1"/>
          <p:cNvSpPr/>
          <p:nvPr/>
        </p:nvSpPr>
        <p:spPr>
          <a:xfrm>
            <a:off x="1600200" y="254016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2"/>
          <p:cNvSpPr/>
          <p:nvPr/>
        </p:nvSpPr>
        <p:spPr>
          <a:xfrm>
            <a:off x="18288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3"/>
          <p:cNvSpPr/>
          <p:nvPr/>
        </p:nvSpPr>
        <p:spPr>
          <a:xfrm>
            <a:off x="13716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4"/>
          <p:cNvSpPr/>
          <p:nvPr/>
        </p:nvSpPr>
        <p:spPr>
          <a:xfrm>
            <a:off x="18288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5"/>
          <p:cNvSpPr/>
          <p:nvPr/>
        </p:nvSpPr>
        <p:spPr>
          <a:xfrm>
            <a:off x="13716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6"/>
          <p:cNvSpPr/>
          <p:nvPr/>
        </p:nvSpPr>
        <p:spPr>
          <a:xfrm>
            <a:off x="1828800" y="2768760"/>
            <a:ext cx="152280" cy="14475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 Brace 67"/>
          <p:cNvSpPr/>
          <p:nvPr/>
        </p:nvSpPr>
        <p:spPr>
          <a:xfrm>
            <a:off x="914400" y="254016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828800"/>
              <a:gd name="textAreaBottom" fmla="*/ 1820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2"/>
          <p:cNvSpPr/>
          <p:nvPr/>
        </p:nvSpPr>
        <p:spPr>
          <a:xfrm>
            <a:off x="-76320" y="30988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2"/>
          <p:cNvSpPr/>
          <p:nvPr/>
        </p:nvSpPr>
        <p:spPr>
          <a:xfrm>
            <a:off x="571500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D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9CD1-2602-42BD-BE39-70DB6D2A822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Flowchart: Process 72"/>
          <p:cNvGrpSpPr/>
          <p:nvPr/>
        </p:nvGrpSpPr>
        <p:grpSpPr>
          <a:xfrm>
            <a:off x="1000080" y="1030320"/>
            <a:ext cx="1047960" cy="1103400"/>
            <a:chOff x="1000080" y="1030320"/>
            <a:chExt cx="1047960" cy="1103400"/>
          </a:xfrm>
        </p:grpSpPr>
        <p:pic>
          <p:nvPicPr>
            <p:cNvPr id="620" name="Flowchart: Process 72" descr=""/>
            <p:cNvPicPr/>
            <p:nvPr/>
          </p:nvPicPr>
          <p:blipFill>
            <a:blip r:embed="rId1"/>
            <a:stretch/>
          </p:blipFill>
          <p:spPr>
            <a:xfrm>
              <a:off x="1000080" y="1030320"/>
              <a:ext cx="104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066680" y="10666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ai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Flowchart: Process 73"/>
          <p:cNvGrpSpPr/>
          <p:nvPr/>
        </p:nvGrpSpPr>
        <p:grpSpPr>
          <a:xfrm>
            <a:off x="3067200" y="1030320"/>
            <a:ext cx="1103040" cy="1103400"/>
            <a:chOff x="3067200" y="1030320"/>
            <a:chExt cx="1103040" cy="1103400"/>
          </a:xfrm>
        </p:grpSpPr>
        <p:pic>
          <p:nvPicPr>
            <p:cNvPr id="623" name="Flowchart: Process 73" descr=""/>
            <p:cNvPicPr/>
            <p:nvPr/>
          </p:nvPicPr>
          <p:blipFill>
            <a:blip r:embed="rId2"/>
            <a:stretch/>
          </p:blipFill>
          <p:spPr>
            <a:xfrm>
              <a:off x="3067200" y="1030320"/>
              <a:ext cx="11030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124080" y="106668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o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Flowchart: Process 75"/>
          <p:cNvGrpSpPr/>
          <p:nvPr/>
        </p:nvGrpSpPr>
        <p:grpSpPr>
          <a:xfrm>
            <a:off x="5089680" y="1030320"/>
            <a:ext cx="1317600" cy="1103400"/>
            <a:chOff x="5089680" y="1030320"/>
            <a:chExt cx="1317600" cy="1103400"/>
          </a:xfrm>
        </p:grpSpPr>
        <p:pic>
          <p:nvPicPr>
            <p:cNvPr id="626" name="Flowchart: Process 75" descr=""/>
            <p:cNvPicPr/>
            <p:nvPr/>
          </p:nvPicPr>
          <p:blipFill>
            <a:blip r:embed="rId3"/>
            <a:stretch/>
          </p:blipFill>
          <p:spPr>
            <a:xfrm>
              <a:off x="5089680" y="103032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181480" y="106668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ing/St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Flowchart: Process 76"/>
          <p:cNvGrpSpPr/>
          <p:nvPr/>
        </p:nvGrpSpPr>
        <p:grpSpPr>
          <a:xfrm>
            <a:off x="7315200" y="1030320"/>
            <a:ext cx="1432080" cy="1103400"/>
            <a:chOff x="7315200" y="1030320"/>
            <a:chExt cx="1432080" cy="1103400"/>
          </a:xfrm>
        </p:grpSpPr>
        <p:pic>
          <p:nvPicPr>
            <p:cNvPr id="629" name="Flowchart: Process 76" descr=""/>
            <p:cNvPicPr/>
            <p:nvPr/>
          </p:nvPicPr>
          <p:blipFill>
            <a:blip r:embed="rId4"/>
            <a:stretch/>
          </p:blipFill>
          <p:spPr>
            <a:xfrm>
              <a:off x="7315200" y="1030320"/>
              <a:ext cx="1432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391520" y="1066680"/>
              <a:ext cx="1295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ransisto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rd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Striped Right Arrow 77"/>
          <p:cNvGrpSpPr/>
          <p:nvPr/>
        </p:nvGrpSpPr>
        <p:grpSpPr>
          <a:xfrm>
            <a:off x="2225520" y="1262160"/>
            <a:ext cx="725760" cy="718920"/>
            <a:chOff x="2225520" y="1262160"/>
            <a:chExt cx="725760" cy="718920"/>
          </a:xfrm>
        </p:grpSpPr>
        <p:pic>
          <p:nvPicPr>
            <p:cNvPr id="632" name="Striped Right Arrow 77" descr=""/>
            <p:cNvPicPr/>
            <p:nvPr/>
          </p:nvPicPr>
          <p:blipFill>
            <a:blip r:embed="rId5"/>
            <a:stretch/>
          </p:blipFill>
          <p:spPr>
            <a:xfrm>
              <a:off x="2225520" y="1262160"/>
              <a:ext cx="725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3814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Striped Right Arrow 78"/>
          <p:cNvGrpSpPr/>
          <p:nvPr/>
        </p:nvGrpSpPr>
        <p:grpSpPr>
          <a:xfrm>
            <a:off x="4286160" y="1262160"/>
            <a:ext cx="723960" cy="718920"/>
            <a:chOff x="4286160" y="1262160"/>
            <a:chExt cx="723960" cy="718920"/>
          </a:xfrm>
        </p:grpSpPr>
        <p:pic>
          <p:nvPicPr>
            <p:cNvPr id="635" name="Striped Right Arrow 78" descr=""/>
            <p:cNvPicPr/>
            <p:nvPr/>
          </p:nvPicPr>
          <p:blipFill>
            <a:blip r:embed="rId6"/>
            <a:stretch/>
          </p:blipFill>
          <p:spPr>
            <a:xfrm>
              <a:off x="4286160" y="1262160"/>
              <a:ext cx="723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4388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Striped Right Arrow 79"/>
          <p:cNvGrpSpPr/>
          <p:nvPr/>
        </p:nvGrpSpPr>
        <p:grpSpPr>
          <a:xfrm>
            <a:off x="6492960" y="1262160"/>
            <a:ext cx="725400" cy="718920"/>
            <a:chOff x="6492960" y="1262160"/>
            <a:chExt cx="725400" cy="718920"/>
          </a:xfrm>
        </p:grpSpPr>
        <p:pic>
          <p:nvPicPr>
            <p:cNvPr id="638" name="Striped Right Arrow 79" descr=""/>
            <p:cNvPicPr/>
            <p:nvPr/>
          </p:nvPicPr>
          <p:blipFill>
            <a:blip r:embed="rId7"/>
            <a:stretch/>
          </p:blipFill>
          <p:spPr>
            <a:xfrm>
              <a:off x="6492960" y="126216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64848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83" descr=""/>
          <p:cNvPicPr/>
          <p:nvPr/>
        </p:nvPicPr>
        <p:blipFill>
          <a:blip r:embed="rId1"/>
          <a:stretch/>
        </p:blipFill>
        <p:spPr>
          <a:xfrm>
            <a:off x="593640" y="137160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Pai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495360" y="914400"/>
            <a:ext cx="255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BA05-8E4F-4F33-9A9B-7EB4D3FA592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55623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Matching problem solved optimally with </a:t>
            </a:r>
            <a:r>
              <a:rPr b="0" i="1" lang="en-US" sz="2300" spc="-1" strike="noStrike">
                <a:solidFill>
                  <a:srgbClr val="526895"/>
                </a:solidFill>
                <a:latin typeface="Arial"/>
              </a:rPr>
              <a:t>Hungarian algorithm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3" name="TextBox 121"/>
          <p:cNvSpPr/>
          <p:nvPr/>
        </p:nvSpPr>
        <p:spPr>
          <a:xfrm>
            <a:off x="1606680" y="12304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22"/>
          <p:cNvSpPr/>
          <p:nvPr/>
        </p:nvSpPr>
        <p:spPr>
          <a:xfrm>
            <a:off x="1432080" y="20574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0"/>
          <p:cNvSpPr/>
          <p:nvPr/>
        </p:nvSpPr>
        <p:spPr>
          <a:xfrm>
            <a:off x="517680" y="1839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20"/>
          <p:cNvSpPr/>
          <p:nvPr/>
        </p:nvSpPr>
        <p:spPr>
          <a:xfrm>
            <a:off x="289080" y="16002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0"/>
          <p:cNvSpPr/>
          <p:nvPr/>
        </p:nvSpPr>
        <p:spPr>
          <a:xfrm>
            <a:off x="1282680" y="25257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0"/>
          <p:cNvSpPr/>
          <p:nvPr/>
        </p:nvSpPr>
        <p:spPr>
          <a:xfrm>
            <a:off x="673200" y="2514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0"/>
          <p:cNvSpPr/>
          <p:nvPr/>
        </p:nvSpPr>
        <p:spPr>
          <a:xfrm>
            <a:off x="289080" y="20574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20"/>
          <p:cNvSpPr/>
          <p:nvPr/>
        </p:nvSpPr>
        <p:spPr>
          <a:xfrm>
            <a:off x="9777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0"/>
          <p:cNvSpPr/>
          <p:nvPr/>
        </p:nvSpPr>
        <p:spPr>
          <a:xfrm>
            <a:off x="15843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0"/>
          <p:cNvSpPr/>
          <p:nvPr/>
        </p:nvSpPr>
        <p:spPr>
          <a:xfrm>
            <a:off x="974880" y="2982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0"/>
          <p:cNvSpPr/>
          <p:nvPr/>
        </p:nvSpPr>
        <p:spPr>
          <a:xfrm>
            <a:off x="974880" y="34401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24"/>
          <p:cNvSpPr/>
          <p:nvPr/>
        </p:nvSpPr>
        <p:spPr>
          <a:xfrm>
            <a:off x="1508040" y="2906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5"/>
          <p:cNvSpPr/>
          <p:nvPr/>
        </p:nvSpPr>
        <p:spPr>
          <a:xfrm>
            <a:off x="14540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25"/>
          <p:cNvSpPr/>
          <p:nvPr/>
        </p:nvSpPr>
        <p:spPr>
          <a:xfrm>
            <a:off x="1508040" y="366876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3"/>
          <p:cNvSpPr/>
          <p:nvPr/>
        </p:nvSpPr>
        <p:spPr>
          <a:xfrm>
            <a:off x="1812960" y="2449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3"/>
          <p:cNvSpPr/>
          <p:nvPr/>
        </p:nvSpPr>
        <p:spPr>
          <a:xfrm>
            <a:off x="2346480" y="2209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3"/>
          <p:cNvSpPr/>
          <p:nvPr/>
        </p:nvSpPr>
        <p:spPr>
          <a:xfrm>
            <a:off x="28908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3"/>
          <p:cNvSpPr/>
          <p:nvPr/>
        </p:nvSpPr>
        <p:spPr>
          <a:xfrm>
            <a:off x="31104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23"/>
          <p:cNvSpPr/>
          <p:nvPr/>
        </p:nvSpPr>
        <p:spPr>
          <a:xfrm>
            <a:off x="1149480" y="4495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23"/>
          <p:cNvSpPr/>
          <p:nvPr/>
        </p:nvSpPr>
        <p:spPr>
          <a:xfrm>
            <a:off x="153036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3"/>
          <p:cNvSpPr/>
          <p:nvPr/>
        </p:nvSpPr>
        <p:spPr>
          <a:xfrm>
            <a:off x="153036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23"/>
          <p:cNvSpPr/>
          <p:nvPr/>
        </p:nvSpPr>
        <p:spPr>
          <a:xfrm>
            <a:off x="2171880" y="434340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iped Right Arrow 122"/>
          <p:cNvSpPr/>
          <p:nvPr/>
        </p:nvSpPr>
        <p:spPr>
          <a:xfrm>
            <a:off x="3048120" y="2590920"/>
            <a:ext cx="533160" cy="609480"/>
          </a:xfrm>
          <a:custGeom>
            <a:avLst/>
            <a:gdLst>
              <a:gd name="textAreaLeft" fmla="*/ 83160 w 533160"/>
              <a:gd name="textAreaRight" fmla="*/ 399960 w 5331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4038480" y="2773440"/>
          <a:ext cx="4038840" cy="2560680"/>
        </p:xfrm>
        <a:graphic>
          <a:graphicData uri="http://schemas.openxmlformats.org/drawingml/2006/table">
            <a:tbl>
              <a:tblPr/>
              <a:tblGrid>
                <a:gridCol w="576360"/>
                <a:gridCol w="577800"/>
                <a:gridCol w="576360"/>
                <a:gridCol w="577800"/>
                <a:gridCol w="576360"/>
                <a:gridCol w="577800"/>
                <a:gridCol w="5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Rectangle 93"/>
          <p:cNvSpPr/>
          <p:nvPr/>
        </p:nvSpPr>
        <p:spPr>
          <a:xfrm>
            <a:off x="57150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4"/>
          <p:cNvSpPr/>
          <p:nvPr/>
        </p:nvSpPr>
        <p:spPr>
          <a:xfrm>
            <a:off x="5715000" y="83808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5"/>
          <p:cNvSpPr/>
          <p:nvPr/>
        </p:nvSpPr>
        <p:spPr>
          <a:xfrm>
            <a:off x="6019920" y="685800"/>
            <a:ext cx="15228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6"/>
          <p:cNvSpPr/>
          <p:nvPr/>
        </p:nvSpPr>
        <p:spPr>
          <a:xfrm>
            <a:off x="62485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7"/>
          <p:cNvSpPr/>
          <p:nvPr/>
        </p:nvSpPr>
        <p:spPr>
          <a:xfrm>
            <a:off x="57913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8"/>
          <p:cNvSpPr/>
          <p:nvPr/>
        </p:nvSpPr>
        <p:spPr>
          <a:xfrm>
            <a:off x="62485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9"/>
          <p:cNvSpPr/>
          <p:nvPr/>
        </p:nvSpPr>
        <p:spPr>
          <a:xfrm>
            <a:off x="57913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00"/>
          <p:cNvSpPr/>
          <p:nvPr/>
        </p:nvSpPr>
        <p:spPr>
          <a:xfrm>
            <a:off x="6248520" y="9144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eft Brace 101"/>
          <p:cNvSpPr/>
          <p:nvPr/>
        </p:nvSpPr>
        <p:spPr>
          <a:xfrm flipH="1">
            <a:off x="6477120" y="762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2"/>
          <p:cNvSpPr/>
          <p:nvPr/>
        </p:nvSpPr>
        <p:spPr>
          <a:xfrm>
            <a:off x="6781680" y="1262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2"/>
          <p:cNvSpPr/>
          <p:nvPr/>
        </p:nvSpPr>
        <p:spPr>
          <a:xfrm>
            <a:off x="4952880" y="22860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ing scor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6"/>
          <p:cNvSpPr/>
          <p:nvPr/>
        </p:nvSpPr>
        <p:spPr>
          <a:xfrm>
            <a:off x="3200400" y="2971800"/>
            <a:ext cx="7621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Folding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Given fixed cell height (as a rule), exhaustive search to find optimal p/n transistor folding sizes.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Transistor pairs with a larger height are then folded into multiple pairs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30BA-130C-4816-86CF-CD1D7C1BF3C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3200400" y="20574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2004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4952880" y="182880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50292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59436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32767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37339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3505320" y="1447920"/>
            <a:ext cx="15228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5257800" y="2590920"/>
            <a:ext cx="6094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iped Right Arrow 18"/>
          <p:cNvSpPr/>
          <p:nvPr/>
        </p:nvSpPr>
        <p:spPr>
          <a:xfrm>
            <a:off x="4267080" y="2514600"/>
            <a:ext cx="381240" cy="380880"/>
          </a:xfrm>
          <a:custGeom>
            <a:avLst/>
            <a:gdLst>
              <a:gd name="textAreaLeft" fmla="*/ 5940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close/>
                <a:moveTo>
                  <a:pt x="59531" y="95250"/>
                </a:moveTo>
                <a:lnTo>
                  <a:pt x="190500" y="95250"/>
                </a:lnTo>
                <a:lnTo>
                  <a:pt x="190500" y="0"/>
                </a:lnTo>
                <a:lnTo>
                  <a:pt x="381000" y="190500"/>
                </a:lnTo>
                <a:lnTo>
                  <a:pt x="190500" y="381000"/>
                </a:lnTo>
                <a:lnTo>
                  <a:pt x="190500" y="285750"/>
                </a:lnTo>
                <a:lnTo>
                  <a:pt x="59531" y="28575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2"/>
          <p:cNvSpPr/>
          <p:nvPr/>
        </p:nvSpPr>
        <p:spPr>
          <a:xfrm>
            <a:off x="2057400" y="22860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82"/>
          <p:cNvSpPr/>
          <p:nvPr/>
        </p:nvSpPr>
        <p:spPr>
          <a:xfrm>
            <a:off x="6248520" y="2293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3200400" y="3276720"/>
            <a:ext cx="762120" cy="3045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32767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4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3505320" y="2666880"/>
            <a:ext cx="15228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7"/>
          <p:cNvSpPr/>
          <p:nvPr/>
        </p:nvSpPr>
        <p:spPr>
          <a:xfrm>
            <a:off x="4952880" y="3124080"/>
            <a:ext cx="12193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8"/>
          <p:cNvSpPr/>
          <p:nvPr/>
        </p:nvSpPr>
        <p:spPr>
          <a:xfrm>
            <a:off x="50292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9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54864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57150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2578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83" descr=""/>
          <p:cNvPicPr/>
          <p:nvPr/>
        </p:nvPicPr>
        <p:blipFill>
          <a:blip r:embed="rId1"/>
          <a:stretch/>
        </p:blipFill>
        <p:spPr>
          <a:xfrm>
            <a:off x="1279440" y="90324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0" y="2666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53"/>
          <p:cNvSpPr/>
          <p:nvPr/>
        </p:nvSpPr>
        <p:spPr>
          <a:xfrm>
            <a:off x="5943600" y="609480"/>
            <a:ext cx="222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PARTIT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56C5-7A0F-4D8E-8456-61A87494728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7" descr=""/>
          <p:cNvPicPr/>
          <p:nvPr/>
        </p:nvPicPr>
        <p:blipFill>
          <a:blip r:embed="rId2"/>
          <a:stretch/>
        </p:blipFill>
        <p:spPr>
          <a:xfrm>
            <a:off x="6438960" y="4033800"/>
            <a:ext cx="419040" cy="2858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8" descr=""/>
          <p:cNvPicPr/>
          <p:nvPr/>
        </p:nvPicPr>
        <p:blipFill>
          <a:blip r:embed="rId3"/>
          <a:stretch/>
        </p:blipFill>
        <p:spPr>
          <a:xfrm>
            <a:off x="7105680" y="4344840"/>
            <a:ext cx="447480" cy="276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"/>
          <p:cNvPicPr/>
          <p:nvPr/>
        </p:nvPicPr>
        <p:blipFill>
          <a:blip r:embed="rId4"/>
          <a:stretch/>
        </p:blipFill>
        <p:spPr>
          <a:xfrm>
            <a:off x="6429240" y="36957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5" descr=""/>
          <p:cNvPicPr/>
          <p:nvPr/>
        </p:nvPicPr>
        <p:blipFill>
          <a:blip r:embed="rId5"/>
          <a:stretch/>
        </p:blipFill>
        <p:spPr>
          <a:xfrm>
            <a:off x="6419880" y="2781360"/>
            <a:ext cx="438120" cy="2858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"/>
          <p:cNvPicPr/>
          <p:nvPr/>
        </p:nvPicPr>
        <p:blipFill>
          <a:blip r:embed="rId6"/>
          <a:stretch/>
        </p:blipFill>
        <p:spPr>
          <a:xfrm>
            <a:off x="7105680" y="1430280"/>
            <a:ext cx="447480" cy="2858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3" descr=""/>
          <p:cNvPicPr/>
          <p:nvPr/>
        </p:nvPicPr>
        <p:blipFill>
          <a:blip r:embed="rId7"/>
          <a:stretch/>
        </p:blipFill>
        <p:spPr>
          <a:xfrm>
            <a:off x="7134120" y="3564000"/>
            <a:ext cx="428760" cy="276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2" descr=""/>
          <p:cNvPicPr/>
          <p:nvPr/>
        </p:nvPicPr>
        <p:blipFill>
          <a:blip r:embed="rId8"/>
          <a:stretch/>
        </p:blipFill>
        <p:spPr>
          <a:xfrm>
            <a:off x="6572160" y="2278080"/>
            <a:ext cx="44784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0" descr=""/>
          <p:cNvPicPr/>
          <p:nvPr/>
        </p:nvPicPr>
        <p:blipFill>
          <a:blip r:embed="rId9"/>
          <a:stretch/>
        </p:blipFill>
        <p:spPr>
          <a:xfrm>
            <a:off x="6429240" y="1792440"/>
            <a:ext cx="447840" cy="285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10"/>
          <a:stretch/>
        </p:blipFill>
        <p:spPr>
          <a:xfrm>
            <a:off x="7105680" y="3127320"/>
            <a:ext cx="447480" cy="257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" descr=""/>
          <p:cNvPicPr/>
          <p:nvPr/>
        </p:nvPicPr>
        <p:blipFill>
          <a:blip r:embed="rId11"/>
          <a:stretch/>
        </p:blipFill>
        <p:spPr>
          <a:xfrm>
            <a:off x="7105680" y="1049400"/>
            <a:ext cx="457200" cy="32364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7"/>
          <p:cNvSpPr/>
          <p:nvPr/>
        </p:nvSpPr>
        <p:spPr>
          <a:xfrm>
            <a:off x="5867280" y="1219320"/>
            <a:ext cx="552600" cy="565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565200"/>
              <a:gd name="textAreaBottom" fmla="*/ 538560 h 565200"/>
            </a:gdLst>
            <a:ahLst/>
            <a:rect l="textAreaLeft" t="textAreaTop" r="textAreaRight" b="textAreaBottom"/>
            <a:pathLst>
              <a:path w="21600" h="22092">
                <a:moveTo>
                  <a:pt x="3600" y="0"/>
                </a:moveTo>
                <a:arcTo wR="3600" hR="3600" stAng="16200000" swAng="-5400000"/>
                <a:lnTo>
                  <a:pt x="0" y="18492"/>
                </a:lnTo>
                <a:arcTo wR="3600" hR="3600" stAng="10800000" swAng="-5400000"/>
                <a:lnTo>
                  <a:pt x="18000" y="22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ed Rectangle 10"/>
          <p:cNvSpPr/>
          <p:nvPr/>
        </p:nvSpPr>
        <p:spPr>
          <a:xfrm>
            <a:off x="5867280" y="3097080"/>
            <a:ext cx="552600" cy="1600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1600200"/>
              <a:gd name="textAreaBottom" fmla="*/ 1573560 h 1600200"/>
            </a:gdLst>
            <a:ahLst/>
            <a:rect l="textAreaLeft" t="textAreaTop" r="textAreaRight" b="textAreaBottom"/>
            <a:pathLst>
              <a:path w="21600" h="62522">
                <a:moveTo>
                  <a:pt x="3600" y="0"/>
                </a:moveTo>
                <a:arcTo wR="3600" hR="3600" stAng="16200000" swAng="-5400000"/>
                <a:lnTo>
                  <a:pt x="0" y="58922"/>
                </a:lnTo>
                <a:arcTo wR="3600" hR="3600" stAng="10800000" swAng="-5400000"/>
                <a:lnTo>
                  <a:pt x="18000" y="62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11"/>
          <p:cNvSpPr/>
          <p:nvPr/>
        </p:nvSpPr>
        <p:spPr>
          <a:xfrm>
            <a:off x="5867280" y="2039760"/>
            <a:ext cx="552600" cy="80676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806760"/>
              <a:gd name="textAreaBottom" fmla="*/ 780120 h 806760"/>
            </a:gdLst>
            <a:ahLst/>
            <a:rect l="textAreaLeft" t="textAreaTop" r="textAreaRight" b="textAreaBottom"/>
            <a:pathLst>
              <a:path w="21600" h="31528">
                <a:moveTo>
                  <a:pt x="3600" y="0"/>
                </a:moveTo>
                <a:arcTo wR="3600" hR="3600" stAng="16200000" swAng="-5400000"/>
                <a:lnTo>
                  <a:pt x="0" y="27928"/>
                </a:lnTo>
                <a:arcTo wR="3600" hR="3600" stAng="10800000" swAng="-5400000"/>
                <a:lnTo>
                  <a:pt x="18000" y="31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12"/>
          <p:cNvSpPr/>
          <p:nvPr/>
        </p:nvSpPr>
        <p:spPr>
          <a:xfrm>
            <a:off x="7593120" y="1057320"/>
            <a:ext cx="560160" cy="565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565200"/>
              <a:gd name="textAreaBottom" fmla="*/ 537840 h 56520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13"/>
          <p:cNvSpPr/>
          <p:nvPr/>
        </p:nvSpPr>
        <p:spPr>
          <a:xfrm>
            <a:off x="7593120" y="2670120"/>
            <a:ext cx="560160" cy="727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727200"/>
              <a:gd name="textAreaBottom" fmla="*/ 699840 h 727200"/>
            </a:gdLst>
            <a:ahLst/>
            <a:rect l="textAreaLeft" t="textAreaTop" r="textAreaRight" b="textAreaBottom"/>
            <a:pathLst>
              <a:path w="21600" h="28037">
                <a:moveTo>
                  <a:pt x="3600" y="0"/>
                </a:moveTo>
                <a:arcTo wR="3600" hR="3600" stAng="16200000" swAng="-5400000"/>
                <a:lnTo>
                  <a:pt x="0" y="24437"/>
                </a:lnTo>
                <a:arcTo wR="3600" hR="3600" stAng="10800000" swAng="-5400000"/>
                <a:lnTo>
                  <a:pt x="18000" y="28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14"/>
          <p:cNvSpPr/>
          <p:nvPr/>
        </p:nvSpPr>
        <p:spPr>
          <a:xfrm>
            <a:off x="7593120" y="3487680"/>
            <a:ext cx="560160" cy="129528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1295280"/>
              <a:gd name="textAreaBottom" fmla="*/ 1267920 h 1295280"/>
            </a:gdLst>
            <a:ahLst/>
            <a:rect l="textAreaLeft" t="textAreaTop" r="textAreaRight" b="textAreaBottom"/>
            <a:pathLst>
              <a:path w="21600" h="49928">
                <a:moveTo>
                  <a:pt x="3600" y="0"/>
                </a:moveTo>
                <a:arcTo wR="3600" hR="3600" stAng="16200000" swAng="-5400000"/>
                <a:lnTo>
                  <a:pt x="0" y="46328"/>
                </a:lnTo>
                <a:arcTo wR="3600" hR="3600" stAng="10800000" swAng="-5400000"/>
                <a:lnTo>
                  <a:pt x="18000" y="49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15"/>
          <p:cNvSpPr/>
          <p:nvPr/>
        </p:nvSpPr>
        <p:spPr>
          <a:xfrm>
            <a:off x="7593120" y="1703520"/>
            <a:ext cx="560160" cy="8874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887400"/>
              <a:gd name="textAreaBottom" fmla="*/ 860040 h 887400"/>
            </a:gdLst>
            <a:ahLst/>
            <a:rect l="textAreaLeft" t="textAreaTop" r="textAreaRight" b="textAreaBottom"/>
            <a:pathLst>
              <a:path w="21600" h="34210">
                <a:moveTo>
                  <a:pt x="3600" y="0"/>
                </a:moveTo>
                <a:arcTo wR="3600" hR="3600" stAng="16200000" swAng="-5400000"/>
                <a:lnTo>
                  <a:pt x="0" y="30610"/>
                </a:lnTo>
                <a:arcTo wR="3600" hR="3600" stAng="10800000" swAng="-5400000"/>
                <a:lnTo>
                  <a:pt x="18000" y="3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4"/>
          <p:cNvSpPr/>
          <p:nvPr/>
        </p:nvSpPr>
        <p:spPr>
          <a:xfrm flipV="1">
            <a:off x="6419880" y="1339920"/>
            <a:ext cx="116208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6"/>
          <p:cNvSpPr/>
          <p:nvPr/>
        </p:nvSpPr>
        <p:spPr>
          <a:xfrm>
            <a:off x="6419880" y="1501920"/>
            <a:ext cx="116208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0"/>
          <p:cNvSpPr/>
          <p:nvPr/>
        </p:nvSpPr>
        <p:spPr>
          <a:xfrm>
            <a:off x="6419880" y="3411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31"/>
          <p:cNvSpPr/>
          <p:nvPr/>
        </p:nvSpPr>
        <p:spPr>
          <a:xfrm flipV="1">
            <a:off x="6419880" y="3033720"/>
            <a:ext cx="1173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43"/>
          <p:cNvSpPr/>
          <p:nvPr/>
        </p:nvSpPr>
        <p:spPr>
          <a:xfrm>
            <a:off x="6419880" y="4325760"/>
            <a:ext cx="1162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45"/>
          <p:cNvSpPr/>
          <p:nvPr/>
        </p:nvSpPr>
        <p:spPr>
          <a:xfrm>
            <a:off x="6419880" y="2475000"/>
            <a:ext cx="116208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47"/>
          <p:cNvSpPr/>
          <p:nvPr/>
        </p:nvSpPr>
        <p:spPr>
          <a:xfrm>
            <a:off x="6419880" y="3564000"/>
            <a:ext cx="1162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71"/>
          <p:cNvSpPr/>
          <p:nvPr/>
        </p:nvSpPr>
        <p:spPr>
          <a:xfrm flipV="1">
            <a:off x="6419880" y="2496600"/>
            <a:ext cx="1162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73"/>
          <p:cNvSpPr/>
          <p:nvPr/>
        </p:nvSpPr>
        <p:spPr>
          <a:xfrm flipV="1">
            <a:off x="6419880" y="1963440"/>
            <a:ext cx="1162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20"/>
          <p:cNvSpPr/>
          <p:nvPr/>
        </p:nvSpPr>
        <p:spPr>
          <a:xfrm>
            <a:off x="5410080" y="13809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21"/>
          <p:cNvSpPr/>
          <p:nvPr/>
        </p:nvSpPr>
        <p:spPr>
          <a:xfrm>
            <a:off x="5410080" y="3782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22"/>
          <p:cNvSpPr/>
          <p:nvPr/>
        </p:nvSpPr>
        <p:spPr>
          <a:xfrm>
            <a:off x="5410080" y="23446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3"/>
          <p:cNvSpPr/>
          <p:nvPr/>
        </p:nvSpPr>
        <p:spPr>
          <a:xfrm>
            <a:off x="8175600" y="1219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24"/>
          <p:cNvSpPr/>
          <p:nvPr/>
        </p:nvSpPr>
        <p:spPr>
          <a:xfrm>
            <a:off x="8175600" y="2033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25"/>
          <p:cNvSpPr/>
          <p:nvPr/>
        </p:nvSpPr>
        <p:spPr>
          <a:xfrm>
            <a:off x="8175600" y="2921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26"/>
          <p:cNvSpPr/>
          <p:nvPr/>
        </p:nvSpPr>
        <p:spPr>
          <a:xfrm>
            <a:off x="8175600" y="4049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43"/>
          <p:cNvSpPr/>
          <p:nvPr/>
        </p:nvSpPr>
        <p:spPr>
          <a:xfrm>
            <a:off x="6419880" y="3986280"/>
            <a:ext cx="117324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9" descr=""/>
          <p:cNvPicPr/>
          <p:nvPr/>
        </p:nvPicPr>
        <p:blipFill>
          <a:blip r:embed="rId12"/>
          <a:stretch/>
        </p:blipFill>
        <p:spPr>
          <a:xfrm>
            <a:off x="6419880" y="46306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783" name="Straight Connector 43"/>
          <p:cNvSpPr/>
          <p:nvPr/>
        </p:nvSpPr>
        <p:spPr>
          <a:xfrm>
            <a:off x="6419880" y="4554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1"/>
          <p:cNvSpPr/>
          <p:nvPr/>
        </p:nvSpPr>
        <p:spPr>
          <a:xfrm>
            <a:off x="3581280" y="3711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fol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N1/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4876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Vertic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nodes in netlist and contain pairs the node connects to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dg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ssible diffusion sharing between pair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large # of folds, cluster into groups and treat each as single pai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haining: find maximum set of compatible edg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6" name="TextBox 121"/>
          <p:cNvSpPr/>
          <p:nvPr/>
        </p:nvSpPr>
        <p:spPr>
          <a:xfrm>
            <a:off x="2292480" y="7621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22"/>
          <p:cNvSpPr/>
          <p:nvPr/>
        </p:nvSpPr>
        <p:spPr>
          <a:xfrm>
            <a:off x="2117880" y="15890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0"/>
          <p:cNvSpPr/>
          <p:nvPr/>
        </p:nvSpPr>
        <p:spPr>
          <a:xfrm>
            <a:off x="1203480" y="1371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0"/>
          <p:cNvSpPr/>
          <p:nvPr/>
        </p:nvSpPr>
        <p:spPr>
          <a:xfrm>
            <a:off x="974880" y="11318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20"/>
          <p:cNvSpPr/>
          <p:nvPr/>
        </p:nvSpPr>
        <p:spPr>
          <a:xfrm>
            <a:off x="1968480" y="20574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20"/>
          <p:cNvSpPr/>
          <p:nvPr/>
        </p:nvSpPr>
        <p:spPr>
          <a:xfrm>
            <a:off x="1359000" y="20462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20"/>
          <p:cNvSpPr/>
          <p:nvPr/>
        </p:nvSpPr>
        <p:spPr>
          <a:xfrm>
            <a:off x="974880" y="15890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20"/>
          <p:cNvSpPr/>
          <p:nvPr/>
        </p:nvSpPr>
        <p:spPr>
          <a:xfrm>
            <a:off x="16635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0"/>
          <p:cNvSpPr/>
          <p:nvPr/>
        </p:nvSpPr>
        <p:spPr>
          <a:xfrm>
            <a:off x="22701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0"/>
          <p:cNvSpPr/>
          <p:nvPr/>
        </p:nvSpPr>
        <p:spPr>
          <a:xfrm>
            <a:off x="1660680" y="2514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0"/>
          <p:cNvSpPr/>
          <p:nvPr/>
        </p:nvSpPr>
        <p:spPr>
          <a:xfrm>
            <a:off x="1660680" y="29718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4"/>
          <p:cNvSpPr/>
          <p:nvPr/>
        </p:nvSpPr>
        <p:spPr>
          <a:xfrm>
            <a:off x="2193840" y="2438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25"/>
          <p:cNvSpPr/>
          <p:nvPr/>
        </p:nvSpPr>
        <p:spPr>
          <a:xfrm>
            <a:off x="2139840" y="2732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25"/>
          <p:cNvSpPr/>
          <p:nvPr/>
        </p:nvSpPr>
        <p:spPr>
          <a:xfrm>
            <a:off x="21938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23"/>
          <p:cNvSpPr/>
          <p:nvPr/>
        </p:nvSpPr>
        <p:spPr>
          <a:xfrm>
            <a:off x="2498760" y="1981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23"/>
          <p:cNvSpPr/>
          <p:nvPr/>
        </p:nvSpPr>
        <p:spPr>
          <a:xfrm>
            <a:off x="3032280" y="1741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23"/>
          <p:cNvSpPr/>
          <p:nvPr/>
        </p:nvSpPr>
        <p:spPr>
          <a:xfrm>
            <a:off x="97488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3"/>
          <p:cNvSpPr/>
          <p:nvPr/>
        </p:nvSpPr>
        <p:spPr>
          <a:xfrm>
            <a:off x="99684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23"/>
          <p:cNvSpPr/>
          <p:nvPr/>
        </p:nvSpPr>
        <p:spPr>
          <a:xfrm>
            <a:off x="1835280" y="4027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23"/>
          <p:cNvSpPr/>
          <p:nvPr/>
        </p:nvSpPr>
        <p:spPr>
          <a:xfrm>
            <a:off x="221616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23"/>
          <p:cNvSpPr/>
          <p:nvPr/>
        </p:nvSpPr>
        <p:spPr>
          <a:xfrm>
            <a:off x="221616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23"/>
          <p:cNvSpPr/>
          <p:nvPr/>
        </p:nvSpPr>
        <p:spPr>
          <a:xfrm>
            <a:off x="2857680" y="387504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iped Right Arrow 90"/>
          <p:cNvSpPr/>
          <p:nvPr/>
        </p:nvSpPr>
        <p:spPr>
          <a:xfrm>
            <a:off x="4114800" y="304812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1"/>
          <p:cNvSpPr/>
          <p:nvPr/>
        </p:nvSpPr>
        <p:spPr>
          <a:xfrm>
            <a:off x="3657600" y="1627200"/>
            <a:ext cx="16765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2"/>
          <p:cNvSpPr/>
          <p:nvPr/>
        </p:nvSpPr>
        <p:spPr>
          <a:xfrm>
            <a:off x="39625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3"/>
          <p:cNvSpPr/>
          <p:nvPr/>
        </p:nvSpPr>
        <p:spPr>
          <a:xfrm>
            <a:off x="44197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4"/>
          <p:cNvSpPr/>
          <p:nvPr/>
        </p:nvSpPr>
        <p:spPr>
          <a:xfrm>
            <a:off x="48769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5"/>
          <p:cNvSpPr/>
          <p:nvPr/>
        </p:nvSpPr>
        <p:spPr>
          <a:xfrm>
            <a:off x="37339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6"/>
          <p:cNvSpPr/>
          <p:nvPr/>
        </p:nvSpPr>
        <p:spPr>
          <a:xfrm>
            <a:off x="51055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97"/>
          <p:cNvSpPr/>
          <p:nvPr/>
        </p:nvSpPr>
        <p:spPr>
          <a:xfrm>
            <a:off x="46483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eft Brace 98"/>
          <p:cNvSpPr/>
          <p:nvPr/>
        </p:nvSpPr>
        <p:spPr>
          <a:xfrm rot="16200000">
            <a:off x="4305240" y="1436760"/>
            <a:ext cx="380880" cy="1828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828800"/>
              <a:gd name="textAreaBottom" fmla="*/ 18190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eft Brace 99"/>
          <p:cNvSpPr/>
          <p:nvPr/>
        </p:nvSpPr>
        <p:spPr>
          <a:xfrm rot="5400000">
            <a:off x="4100760" y="927720"/>
            <a:ext cx="331920" cy="762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8640 h 762120"/>
              <a:gd name="textAreaBottom" fmla="*/ 753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5400" y="10800"/>
                  <a:pt x="0" y="10800"/>
                </a:cubicBezTo>
                <a:cubicBezTo>
                  <a:pt x="54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2"/>
          <p:cNvSpPr/>
          <p:nvPr/>
        </p:nvSpPr>
        <p:spPr>
          <a:xfrm>
            <a:off x="4038480" y="24652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2"/>
          <p:cNvSpPr/>
          <p:nvPr/>
        </p:nvSpPr>
        <p:spPr>
          <a:xfrm>
            <a:off x="3809880" y="76212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2" descr=""/>
          <p:cNvPicPr/>
          <p:nvPr/>
        </p:nvPicPr>
        <p:blipFill>
          <a:blip r:embed="rId1"/>
          <a:stretch/>
        </p:blipFill>
        <p:spPr>
          <a:xfrm>
            <a:off x="152280" y="1695600"/>
            <a:ext cx="828720" cy="5461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"/>
          <p:cNvPicPr/>
          <p:nvPr/>
        </p:nvPicPr>
        <p:blipFill>
          <a:blip r:embed="rId2"/>
          <a:stretch/>
        </p:blipFill>
        <p:spPr>
          <a:xfrm>
            <a:off x="934920" y="1725480"/>
            <a:ext cx="817560" cy="5335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52"/>
          <p:cNvSpPr/>
          <p:nvPr/>
        </p:nvSpPr>
        <p:spPr>
          <a:xfrm>
            <a:off x="836640" y="1036800"/>
            <a:ext cx="29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MAL ABU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 and Orde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7"/>
          <p:cNvSpPr/>
          <p:nvPr/>
        </p:nvSpPr>
        <p:spPr>
          <a:xfrm>
            <a:off x="6929280" y="914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1"/>
          <p:cNvSpPr/>
          <p:nvPr/>
        </p:nvSpPr>
        <p:spPr>
          <a:xfrm>
            <a:off x="5872320" y="3276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chains/2 sta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DEED-DDA8-4ACE-A668-39B803673EC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8" descr=""/>
          <p:cNvPicPr/>
          <p:nvPr/>
        </p:nvPicPr>
        <p:blipFill>
          <a:blip r:embed="rId3"/>
          <a:stretch/>
        </p:blipFill>
        <p:spPr>
          <a:xfrm>
            <a:off x="2865600" y="1695600"/>
            <a:ext cx="885600" cy="546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1752480" y="165744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9" descr=""/>
          <p:cNvPicPr/>
          <p:nvPr/>
        </p:nvPicPr>
        <p:blipFill>
          <a:blip r:embed="rId5"/>
          <a:stretch/>
        </p:blipFill>
        <p:spPr>
          <a:xfrm>
            <a:off x="3780000" y="1695600"/>
            <a:ext cx="868320" cy="560160"/>
          </a:xfrm>
          <a:prstGeom prst="rect">
            <a:avLst/>
          </a:prstGeom>
          <a:ln w="0">
            <a:noFill/>
          </a:ln>
        </p:spPr>
      </p:pic>
      <p:sp>
        <p:nvSpPr>
          <p:cNvPr id="848" name="Rounded Rectangle 120"/>
          <p:cNvSpPr/>
          <p:nvPr/>
        </p:nvSpPr>
        <p:spPr>
          <a:xfrm>
            <a:off x="76320" y="1542960"/>
            <a:ext cx="259056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21"/>
          <p:cNvSpPr/>
          <p:nvPr/>
        </p:nvSpPr>
        <p:spPr>
          <a:xfrm>
            <a:off x="2819520" y="1542960"/>
            <a:ext cx="187632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53"/>
          <p:cNvSpPr/>
          <p:nvPr/>
        </p:nvSpPr>
        <p:spPr>
          <a:xfrm>
            <a:off x="464832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I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28191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ing/Stack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dges are sorted according to upper bound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on the number of abutment after sel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struct solutions in depth-first search with tree pruning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6895"/>
                </a:solidFill>
                <a:latin typeface="Arial"/>
              </a:rPr>
              <a:t>Only need to examine first several solutions to find optimal in most cases </a:t>
            </a:r>
            <a:endParaRPr b="0" lang="en-US" sz="16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 order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Min cut placement of chains with exhaustive search for small # of chains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For large # of chains, partition with FM algorithm and run exhaustive search to order partitions and chains within partitio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hains are possibly flipped to minimize W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2" name="TextBox 3"/>
          <p:cNvSpPr/>
          <p:nvPr/>
        </p:nvSpPr>
        <p:spPr>
          <a:xfrm>
            <a:off x="2971800" y="2852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C. Hwang </a:t>
            </a:r>
            <a:r>
              <a:rPr b="0" i="1" lang="en-US" sz="2000" spc="-1" strike="noStrike">
                <a:solidFill>
                  <a:srgbClr val="526895"/>
                </a:solidFill>
                <a:latin typeface="Calibri"/>
              </a:rPr>
              <a:t>et al., TCAD </a:t>
            </a: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20"/>
          <p:cNvSpPr/>
          <p:nvPr/>
        </p:nvSpPr>
        <p:spPr>
          <a:xfrm>
            <a:off x="6480000" y="1317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6"/>
          <a:stretch/>
        </p:blipFill>
        <p:spPr>
          <a:xfrm>
            <a:off x="5991120" y="1611360"/>
            <a:ext cx="3000600" cy="1685880"/>
          </a:xfrm>
          <a:prstGeom prst="rect">
            <a:avLst/>
          </a:prstGeom>
          <a:ln w="0">
            <a:noFill/>
          </a:ln>
        </p:spPr>
      </p:pic>
      <p:sp>
        <p:nvSpPr>
          <p:cNvPr id="855" name="TextBox 120"/>
          <p:cNvSpPr/>
          <p:nvPr/>
        </p:nvSpPr>
        <p:spPr>
          <a:xfrm>
            <a:off x="609588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20"/>
          <p:cNvSpPr/>
          <p:nvPr/>
        </p:nvSpPr>
        <p:spPr>
          <a:xfrm>
            <a:off x="67849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20"/>
          <p:cNvSpPr/>
          <p:nvPr/>
        </p:nvSpPr>
        <p:spPr>
          <a:xfrm>
            <a:off x="7086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20"/>
          <p:cNvSpPr/>
          <p:nvPr/>
        </p:nvSpPr>
        <p:spPr>
          <a:xfrm>
            <a:off x="7851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0"/>
          <p:cNvSpPr/>
          <p:nvPr/>
        </p:nvSpPr>
        <p:spPr>
          <a:xfrm>
            <a:off x="81565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846144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iped Right Arrow 47"/>
          <p:cNvSpPr/>
          <p:nvPr/>
        </p:nvSpPr>
        <p:spPr>
          <a:xfrm>
            <a:off x="5029200" y="161928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228240" y="3581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wiring for S/D-to-S/D and gate connections that cannot be on poly using 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ingle-t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runk Steiner tree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horizontal trunk in center of cel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outing and Congestion Estimation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4" name="Slide Number Placeholder 28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62FD-6934-410F-981A-3C0F69C3032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0"/>
          <p:cNvSpPr/>
          <p:nvPr/>
        </p:nvSpPr>
        <p:spPr>
          <a:xfrm>
            <a:off x="5410080" y="1219320"/>
            <a:ext cx="1219320" cy="9903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1"/>
          <p:cNvSpPr/>
          <p:nvPr/>
        </p:nvSpPr>
        <p:spPr>
          <a:xfrm>
            <a:off x="5410080" y="2666880"/>
            <a:ext cx="121932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Rectangle 82"/>
          <p:cNvGrpSpPr/>
          <p:nvPr/>
        </p:nvGrpSpPr>
        <p:grpSpPr>
          <a:xfrm>
            <a:off x="5924520" y="974880"/>
            <a:ext cx="190440" cy="568080"/>
            <a:chOff x="5924520" y="974880"/>
            <a:chExt cx="190440" cy="568080"/>
          </a:xfrm>
        </p:grpSpPr>
        <p:pic>
          <p:nvPicPr>
            <p:cNvPr id="868" name="Rectangle 82" descr=""/>
            <p:cNvPicPr/>
            <p:nvPr/>
          </p:nvPicPr>
          <p:blipFill>
            <a:blip r:embed="rId1"/>
            <a:stretch/>
          </p:blipFill>
          <p:spPr>
            <a:xfrm>
              <a:off x="5924520" y="974880"/>
              <a:ext cx="1904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3600" y="990720"/>
              <a:ext cx="15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84"/>
          <p:cNvSpPr/>
          <p:nvPr/>
        </p:nvSpPr>
        <p:spPr>
          <a:xfrm>
            <a:off x="2895480" y="274320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85"/>
          <p:cNvSpPr/>
          <p:nvPr/>
        </p:nvSpPr>
        <p:spPr>
          <a:xfrm>
            <a:off x="2895480" y="144792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86"/>
          <p:cNvGrpSpPr/>
          <p:nvPr/>
        </p:nvGrpSpPr>
        <p:grpSpPr>
          <a:xfrm>
            <a:off x="5924520" y="3029040"/>
            <a:ext cx="190440" cy="495360"/>
            <a:chOff x="5924520" y="3029040"/>
            <a:chExt cx="190440" cy="495360"/>
          </a:xfrm>
        </p:grpSpPr>
        <p:pic>
          <p:nvPicPr>
            <p:cNvPr id="873" name="Rectangle 86" descr=""/>
            <p:cNvPicPr/>
            <p:nvPr/>
          </p:nvPicPr>
          <p:blipFill>
            <a:blip r:embed="rId2"/>
            <a:stretch/>
          </p:blipFill>
          <p:spPr>
            <a:xfrm>
              <a:off x="5924520" y="3029040"/>
              <a:ext cx="190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3600" y="304812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87"/>
          <p:cNvGrpSpPr/>
          <p:nvPr/>
        </p:nvGrpSpPr>
        <p:grpSpPr>
          <a:xfrm>
            <a:off x="4784760" y="2803680"/>
            <a:ext cx="189000" cy="720720"/>
            <a:chOff x="4784760" y="2803680"/>
            <a:chExt cx="189000" cy="720720"/>
          </a:xfrm>
        </p:grpSpPr>
        <p:pic>
          <p:nvPicPr>
            <p:cNvPr id="876" name="Rectangle 87" descr=""/>
            <p:cNvPicPr/>
            <p:nvPr/>
          </p:nvPicPr>
          <p:blipFill>
            <a:blip r:embed="rId3"/>
            <a:stretch/>
          </p:blipFill>
          <p:spPr>
            <a:xfrm>
              <a:off x="4784760" y="2803680"/>
              <a:ext cx="189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4800600" y="2819520"/>
              <a:ext cx="152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Rectangle 88"/>
          <p:cNvGrpSpPr/>
          <p:nvPr/>
        </p:nvGrpSpPr>
        <p:grpSpPr>
          <a:xfrm>
            <a:off x="3870360" y="2876400"/>
            <a:ext cx="189000" cy="648000"/>
            <a:chOff x="3870360" y="2876400"/>
            <a:chExt cx="189000" cy="648000"/>
          </a:xfrm>
        </p:grpSpPr>
        <p:pic>
          <p:nvPicPr>
            <p:cNvPr id="879" name="Rectangle 88" descr=""/>
            <p:cNvPicPr/>
            <p:nvPr/>
          </p:nvPicPr>
          <p:blipFill>
            <a:blip r:embed="rId4"/>
            <a:stretch/>
          </p:blipFill>
          <p:spPr>
            <a:xfrm>
              <a:off x="3870360" y="2876400"/>
              <a:ext cx="189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3886200" y="2895480"/>
              <a:ext cx="152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Rectangle 89"/>
          <p:cNvGrpSpPr/>
          <p:nvPr/>
        </p:nvGrpSpPr>
        <p:grpSpPr>
          <a:xfrm>
            <a:off x="4327560" y="2498760"/>
            <a:ext cx="189000" cy="646200"/>
            <a:chOff x="4327560" y="2498760"/>
            <a:chExt cx="189000" cy="646200"/>
          </a:xfrm>
        </p:grpSpPr>
        <p:pic>
          <p:nvPicPr>
            <p:cNvPr id="882" name="Rectangle 89" descr=""/>
            <p:cNvPicPr/>
            <p:nvPr/>
          </p:nvPicPr>
          <p:blipFill>
            <a:blip r:embed="rId5"/>
            <a:stretch/>
          </p:blipFill>
          <p:spPr>
            <a:xfrm>
              <a:off x="4327560" y="2498760"/>
              <a:ext cx="189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343400" y="2514600"/>
              <a:ext cx="152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Rectangle 90"/>
          <p:cNvGrpSpPr/>
          <p:nvPr/>
        </p:nvGrpSpPr>
        <p:grpSpPr>
          <a:xfrm>
            <a:off x="3413160" y="2346480"/>
            <a:ext cx="2549520" cy="188640"/>
            <a:chOff x="3413160" y="2346480"/>
            <a:chExt cx="2549520" cy="188640"/>
          </a:xfrm>
        </p:grpSpPr>
        <p:pic>
          <p:nvPicPr>
            <p:cNvPr id="885" name="Rectangle 90" descr=""/>
            <p:cNvPicPr/>
            <p:nvPr/>
          </p:nvPicPr>
          <p:blipFill>
            <a:blip r:embed="rId6"/>
            <a:stretch/>
          </p:blipFill>
          <p:spPr>
            <a:xfrm>
              <a:off x="3413160" y="2346480"/>
              <a:ext cx="2549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429000" y="23623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Rectangle 91"/>
          <p:cNvGrpSpPr/>
          <p:nvPr/>
        </p:nvGrpSpPr>
        <p:grpSpPr>
          <a:xfrm>
            <a:off x="5394240" y="1962000"/>
            <a:ext cx="1255680" cy="190800"/>
            <a:chOff x="5394240" y="1962000"/>
            <a:chExt cx="1255680" cy="190800"/>
          </a:xfrm>
        </p:grpSpPr>
        <p:pic>
          <p:nvPicPr>
            <p:cNvPr id="888" name="Rectangle 91" descr=""/>
            <p:cNvPicPr/>
            <p:nvPr/>
          </p:nvPicPr>
          <p:blipFill>
            <a:blip r:embed="rId7"/>
            <a:stretch/>
          </p:blipFill>
          <p:spPr>
            <a:xfrm>
              <a:off x="5394240" y="1962000"/>
              <a:ext cx="125568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5410080" y="198108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Rectangle 92"/>
          <p:cNvGrpSpPr/>
          <p:nvPr/>
        </p:nvGrpSpPr>
        <p:grpSpPr>
          <a:xfrm>
            <a:off x="5394240" y="2724120"/>
            <a:ext cx="1255680" cy="190440"/>
            <a:chOff x="5394240" y="2724120"/>
            <a:chExt cx="1255680" cy="190440"/>
          </a:xfrm>
        </p:grpSpPr>
        <p:pic>
          <p:nvPicPr>
            <p:cNvPr id="891" name="Rectangle 92" descr=""/>
            <p:cNvPicPr/>
            <p:nvPr/>
          </p:nvPicPr>
          <p:blipFill>
            <a:blip r:embed="rId8"/>
            <a:stretch/>
          </p:blipFill>
          <p:spPr>
            <a:xfrm>
              <a:off x="5394240" y="2724120"/>
              <a:ext cx="12556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410080" y="2743200"/>
              <a:ext cx="1219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Rectangle 93"/>
          <p:cNvGrpSpPr/>
          <p:nvPr/>
        </p:nvGrpSpPr>
        <p:grpSpPr>
          <a:xfrm>
            <a:off x="4784760" y="1504800"/>
            <a:ext cx="189000" cy="878040"/>
            <a:chOff x="4784760" y="1504800"/>
            <a:chExt cx="189000" cy="878040"/>
          </a:xfrm>
        </p:grpSpPr>
        <p:pic>
          <p:nvPicPr>
            <p:cNvPr id="894" name="Rectangle 93" descr=""/>
            <p:cNvPicPr/>
            <p:nvPr/>
          </p:nvPicPr>
          <p:blipFill>
            <a:blip r:embed="rId9"/>
            <a:stretch/>
          </p:blipFill>
          <p:spPr>
            <a:xfrm>
              <a:off x="47847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48006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Rectangle 94"/>
          <p:cNvGrpSpPr/>
          <p:nvPr/>
        </p:nvGrpSpPr>
        <p:grpSpPr>
          <a:xfrm>
            <a:off x="3413160" y="1504800"/>
            <a:ext cx="189000" cy="878040"/>
            <a:chOff x="3413160" y="1504800"/>
            <a:chExt cx="189000" cy="878040"/>
          </a:xfrm>
        </p:grpSpPr>
        <p:pic>
          <p:nvPicPr>
            <p:cNvPr id="897" name="Rectangle 94" descr=""/>
            <p:cNvPicPr/>
            <p:nvPr/>
          </p:nvPicPr>
          <p:blipFill>
            <a:blip r:embed="rId10"/>
            <a:stretch/>
          </p:blipFill>
          <p:spPr>
            <a:xfrm>
              <a:off x="34131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34290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Rectangle 95"/>
          <p:cNvGrpSpPr/>
          <p:nvPr/>
        </p:nvGrpSpPr>
        <p:grpSpPr>
          <a:xfrm>
            <a:off x="3870360" y="1047600"/>
            <a:ext cx="189000" cy="800280"/>
            <a:chOff x="3870360" y="1047600"/>
            <a:chExt cx="189000" cy="800280"/>
          </a:xfrm>
        </p:grpSpPr>
        <p:pic>
          <p:nvPicPr>
            <p:cNvPr id="900" name="Rectangle 95" descr=""/>
            <p:cNvPicPr/>
            <p:nvPr/>
          </p:nvPicPr>
          <p:blipFill>
            <a:blip r:embed="rId11"/>
            <a:stretch/>
          </p:blipFill>
          <p:spPr>
            <a:xfrm>
              <a:off x="3870360" y="1047600"/>
              <a:ext cx="1890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886200" y="1066680"/>
              <a:ext cx="152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97"/>
          <p:cNvSpPr/>
          <p:nvPr/>
        </p:nvSpPr>
        <p:spPr>
          <a:xfrm>
            <a:off x="5715000" y="2362320"/>
            <a:ext cx="5335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8"/>
          <p:cNvSpPr/>
          <p:nvPr/>
        </p:nvSpPr>
        <p:spPr>
          <a:xfrm>
            <a:off x="32004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99"/>
          <p:cNvSpPr/>
          <p:nvPr/>
        </p:nvSpPr>
        <p:spPr>
          <a:xfrm>
            <a:off x="36576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0"/>
          <p:cNvSpPr/>
          <p:nvPr/>
        </p:nvSpPr>
        <p:spPr>
          <a:xfrm>
            <a:off x="41148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1"/>
          <p:cNvSpPr/>
          <p:nvPr/>
        </p:nvSpPr>
        <p:spPr>
          <a:xfrm>
            <a:off x="45720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2"/>
          <p:cNvSpPr/>
          <p:nvPr/>
        </p:nvSpPr>
        <p:spPr>
          <a:xfrm>
            <a:off x="34290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3"/>
          <p:cNvSpPr/>
          <p:nvPr/>
        </p:nvSpPr>
        <p:spPr>
          <a:xfrm>
            <a:off x="3429000" y="2362320"/>
            <a:ext cx="152388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4"/>
          <p:cNvSpPr/>
          <p:nvPr/>
        </p:nvSpPr>
        <p:spPr>
          <a:xfrm>
            <a:off x="4343400" y="2514600"/>
            <a:ext cx="152280" cy="6094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5"/>
          <p:cNvSpPr/>
          <p:nvPr/>
        </p:nvSpPr>
        <p:spPr>
          <a:xfrm>
            <a:off x="61722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6"/>
          <p:cNvSpPr/>
          <p:nvPr/>
        </p:nvSpPr>
        <p:spPr>
          <a:xfrm>
            <a:off x="57150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7"/>
          <p:cNvSpPr/>
          <p:nvPr/>
        </p:nvSpPr>
        <p:spPr>
          <a:xfrm>
            <a:off x="4952880" y="2362320"/>
            <a:ext cx="9907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8"/>
          <p:cNvSpPr/>
          <p:nvPr/>
        </p:nvSpPr>
        <p:spPr>
          <a:xfrm>
            <a:off x="5943600" y="3124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0"/>
          <p:cNvSpPr/>
          <p:nvPr/>
        </p:nvSpPr>
        <p:spPr>
          <a:xfrm>
            <a:off x="5410080" y="1981080"/>
            <a:ext cx="1219320" cy="1526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1"/>
          <p:cNvSpPr/>
          <p:nvPr/>
        </p:nvSpPr>
        <p:spPr>
          <a:xfrm>
            <a:off x="5410080" y="2743200"/>
            <a:ext cx="12193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12"/>
          <p:cNvSpPr/>
          <p:nvPr/>
        </p:nvSpPr>
        <p:spPr>
          <a:xfrm>
            <a:off x="38862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3"/>
          <p:cNvSpPr/>
          <p:nvPr/>
        </p:nvSpPr>
        <p:spPr>
          <a:xfrm>
            <a:off x="34290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14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5"/>
          <p:cNvSpPr/>
          <p:nvPr/>
        </p:nvSpPr>
        <p:spPr>
          <a:xfrm>
            <a:off x="64008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16"/>
          <p:cNvSpPr/>
          <p:nvPr/>
        </p:nvSpPr>
        <p:spPr>
          <a:xfrm>
            <a:off x="54864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7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8"/>
          <p:cNvSpPr/>
          <p:nvPr/>
        </p:nvSpPr>
        <p:spPr>
          <a:xfrm>
            <a:off x="5943600" y="990720"/>
            <a:ext cx="152280" cy="53316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9"/>
          <p:cNvSpPr/>
          <p:nvPr/>
        </p:nvSpPr>
        <p:spPr>
          <a:xfrm>
            <a:off x="5943600" y="3048120"/>
            <a:ext cx="152280" cy="457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20"/>
          <p:cNvSpPr/>
          <p:nvPr/>
        </p:nvSpPr>
        <p:spPr>
          <a:xfrm>
            <a:off x="3886200" y="2895480"/>
            <a:ext cx="152280" cy="6098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1"/>
          <p:cNvSpPr/>
          <p:nvPr/>
        </p:nvSpPr>
        <p:spPr>
          <a:xfrm>
            <a:off x="4800600" y="2819520"/>
            <a:ext cx="152280" cy="6858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3"/>
          <p:cNvSpPr/>
          <p:nvPr/>
        </p:nvSpPr>
        <p:spPr>
          <a:xfrm>
            <a:off x="48006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4"/>
          <p:cNvSpPr/>
          <p:nvPr/>
        </p:nvSpPr>
        <p:spPr>
          <a:xfrm>
            <a:off x="5715000" y="23623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25"/>
          <p:cNvSpPr/>
          <p:nvPr/>
        </p:nvSpPr>
        <p:spPr>
          <a:xfrm>
            <a:off x="48006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26"/>
          <p:cNvSpPr/>
          <p:nvPr/>
        </p:nvSpPr>
        <p:spPr>
          <a:xfrm>
            <a:off x="43434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27"/>
          <p:cNvSpPr/>
          <p:nvPr/>
        </p:nvSpPr>
        <p:spPr>
          <a:xfrm>
            <a:off x="38862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9"/>
          <p:cNvSpPr/>
          <p:nvPr/>
        </p:nvSpPr>
        <p:spPr>
          <a:xfrm>
            <a:off x="48006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0"/>
          <p:cNvSpPr/>
          <p:nvPr/>
        </p:nvSpPr>
        <p:spPr>
          <a:xfrm>
            <a:off x="5943600" y="12952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1"/>
          <p:cNvSpPr/>
          <p:nvPr/>
        </p:nvSpPr>
        <p:spPr>
          <a:xfrm>
            <a:off x="3886200" y="1066680"/>
            <a:ext cx="152280" cy="76212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Rectangle 96"/>
          <p:cNvGrpSpPr/>
          <p:nvPr/>
        </p:nvGrpSpPr>
        <p:grpSpPr>
          <a:xfrm>
            <a:off x="2955960" y="1504800"/>
            <a:ext cx="189000" cy="1640160"/>
            <a:chOff x="2955960" y="1504800"/>
            <a:chExt cx="189000" cy="1640160"/>
          </a:xfrm>
        </p:grpSpPr>
        <p:pic>
          <p:nvPicPr>
            <p:cNvPr id="935" name="Rectangle 96" descr=""/>
            <p:cNvPicPr/>
            <p:nvPr/>
          </p:nvPicPr>
          <p:blipFill>
            <a:blip r:embed="rId12"/>
            <a:stretch/>
          </p:blipFill>
          <p:spPr>
            <a:xfrm>
              <a:off x="2955960" y="1504800"/>
              <a:ext cx="1890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971800" y="1523880"/>
              <a:ext cx="152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122"/>
          <p:cNvSpPr/>
          <p:nvPr/>
        </p:nvSpPr>
        <p:spPr>
          <a:xfrm>
            <a:off x="2971800" y="1523880"/>
            <a:ext cx="152280" cy="1600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9"/>
          <p:cNvSpPr/>
          <p:nvPr/>
        </p:nvSpPr>
        <p:spPr>
          <a:xfrm>
            <a:off x="29718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28"/>
          <p:cNvSpPr/>
          <p:nvPr/>
        </p:nvSpPr>
        <p:spPr>
          <a:xfrm>
            <a:off x="29718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1:50:38Z</dcterms:created>
  <dc:creator>Rani</dc:creator>
  <dc:description/>
  <dc:language>en-US</dc:language>
  <cp:lastModifiedBy>Rani</cp:lastModifiedBy>
  <dcterms:modified xsi:type="dcterms:W3CDTF">2009-11-04T18:57:57Z</dcterms:modified>
  <cp:revision>1413</cp:revision>
  <dc:subject/>
  <dc:title>Automated Evaluation of Design Rule Implications on Circuit Characteristics</dc:title>
</cp:coreProperties>
</file>